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2D6-793E-41C9-82FA-CC054C7A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F4F-CBFB-4371-88EB-EDF6677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77C-BB13-4530-B6D3-3532576D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DDE-0420-41CD-95C9-0174DC8D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9E1-00F6-43AA-8C83-5B2E30B1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B28-1F34-476D-9208-A6DE7DBA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FDB-C424-4961-A743-45554492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3C6-BD09-49F4-8FB1-50294699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028-9E63-495C-AFAC-AF9D700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C0-5DD8-4AE8-962B-2FC0B37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323-481F-48A6-9B8C-A23073D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B12-17CE-43B7-964E-5D22162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eroun 07 - 10 Mai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971-D212-470F-B20C-6AC9EE9B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7360"/>
            <a:ext cx="84582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Eras Bold ITC"/>
              </a:rPr>
              <a:t>Annexe 11 – Présentation 5 au Burkina et Cameroun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omprendre les Pouvoirs &amp; Proces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68"/>
          <p:cNvGrpSpPr/>
          <p:nvPr/>
        </p:nvGrpSpPr>
        <p:grpSpPr>
          <a:xfrm>
            <a:off x="684360" y="1044720"/>
            <a:ext cx="7775280" cy="5336280"/>
            <a:chOff x="684360" y="1044720"/>
            <a:chExt cx="7775280" cy="5336280"/>
          </a:xfrm>
        </p:grpSpPr>
        <p:sp>
          <p:nvSpPr>
            <p:cNvPr id="44" name="Oval 69"/>
            <p:cNvSpPr/>
            <p:nvPr/>
          </p:nvSpPr>
          <p:spPr>
            <a:xfrm>
              <a:off x="684360" y="1044720"/>
              <a:ext cx="7775280" cy="48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WordArt 70"/>
            <p:cNvSpPr txBox="1"/>
            <p:nvPr/>
          </p:nvSpPr>
          <p:spPr>
            <a:xfrm rot="7200">
              <a:off x="1057680" y="1390680"/>
              <a:ext cx="7017480" cy="4982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288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ccffff"/>
                  </a:solidFill>
                  <a:latin typeface="Comic Sans MS"/>
                </a:rPr>
                <a:t>Pouvoirs &amp;  Processus</a:t>
              </a:r>
              <a:endParaRPr b="1" lang="en-US" sz="1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ccffff"/>
                </a:solidFill>
                <a:latin typeface="Comic Sans MS"/>
                <a:ea typeface="Comic Sans MS"/>
              </a:endParaRPr>
            </a:p>
          </p:txBody>
        </p:sp>
        <p:grpSp>
          <p:nvGrpSpPr>
            <p:cNvPr id="46" name="Group 71"/>
            <p:cNvGrpSpPr/>
            <p:nvPr/>
          </p:nvGrpSpPr>
          <p:grpSpPr>
            <a:xfrm>
              <a:off x="1278000" y="1656360"/>
              <a:ext cx="6587280" cy="4325760"/>
              <a:chOff x="1278000" y="1656360"/>
              <a:chExt cx="6587280" cy="4325760"/>
            </a:xfrm>
          </p:grpSpPr>
          <p:sp>
            <p:nvSpPr>
              <p:cNvPr id="47" name="Oval 72"/>
              <p:cNvSpPr/>
              <p:nvPr/>
            </p:nvSpPr>
            <p:spPr>
              <a:xfrm>
                <a:off x="1278000" y="1656360"/>
                <a:ext cx="6587280" cy="4325760"/>
              </a:xfrm>
              <a:prstGeom prst="ellipse">
                <a:avLst/>
              </a:prstGeom>
              <a:gradFill rotWithShape="0">
                <a:gsLst>
                  <a:gs pos="0">
                    <a:srgbClr val="33333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73"/>
              <p:cNvSpPr/>
              <p:nvPr/>
            </p:nvSpPr>
            <p:spPr>
              <a:xfrm>
                <a:off x="2171520" y="2472120"/>
                <a:ext cx="4798440" cy="24408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WordArt 74"/>
              <p:cNvSpPr txBox="1"/>
              <p:nvPr/>
            </p:nvSpPr>
            <p:spPr>
              <a:xfrm rot="21586200">
                <a:off x="3602160" y="2899440"/>
                <a:ext cx="1940760" cy="316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89365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</a:rPr>
                  <a:t>Arènes d'Actions</a:t>
                </a:r>
                <a:endPara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ff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50" name="WordArt 75"/>
              <p:cNvSpPr txBox="1"/>
              <p:nvPr/>
            </p:nvSpPr>
            <p:spPr>
              <a:xfrm rot="21586200">
                <a:off x="2270520" y="2592000"/>
                <a:ext cx="4602960" cy="2383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61754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</a:rPr>
                  <a:t>Acteurs  Rôles &amp; Responsibilités   Relations  Règles &amp; Mesures Incitatives</a:t>
                </a:r>
                <a:endParaRPr b="1" lang="en-US" sz="16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00ff"/>
                  </a:solidFill>
                  <a:latin typeface="Comic Sans MS"/>
                  <a:ea typeface="Comic Sans MS"/>
                </a:endParaRPr>
              </a:p>
            </p:txBody>
          </p:sp>
          <p:grpSp>
            <p:nvGrpSpPr>
              <p:cNvPr id="51" name="Group 76"/>
              <p:cNvGrpSpPr/>
              <p:nvPr/>
            </p:nvGrpSpPr>
            <p:grpSpPr>
              <a:xfrm>
                <a:off x="3243960" y="3631680"/>
                <a:ext cx="2828160" cy="2093400"/>
                <a:chOff x="3243960" y="3631680"/>
                <a:chExt cx="2828160" cy="2093400"/>
              </a:xfrm>
            </p:grpSpPr>
            <p:sp>
              <p:nvSpPr>
                <p:cNvPr id="52" name="Arc 77"/>
                <p:cNvSpPr/>
                <p:nvPr/>
              </p:nvSpPr>
              <p:spPr>
                <a:xfrm flipH="1">
                  <a:off x="3243960" y="3631680"/>
                  <a:ext cx="2828160" cy="184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c1c1c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WordArt 78"/>
                <p:cNvSpPr txBox="1"/>
                <p:nvPr/>
              </p:nvSpPr>
              <p:spPr>
                <a:xfrm rot="65400">
                  <a:off x="3375000" y="3722040"/>
                  <a:ext cx="2536920" cy="197892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6209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Comic Sans MS"/>
                    </a:rPr>
                    <a:t>VULNERABILITE - Chocs  Saisonnalité  Tendances - VULNERABILITE</a:t>
                  </a:r>
                  <a:endParaRPr b="1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  <a:ea typeface="Comic Sans MS"/>
                  </a:endParaRPr>
                </a:p>
              </p:txBody>
            </p:sp>
            <p:grpSp>
              <p:nvGrpSpPr>
                <p:cNvPr id="54" name="Group 79"/>
                <p:cNvGrpSpPr/>
                <p:nvPr/>
              </p:nvGrpSpPr>
              <p:grpSpPr>
                <a:xfrm>
                  <a:off x="3435480" y="3768120"/>
                  <a:ext cx="2419560" cy="1706760"/>
                  <a:chOff x="3435480" y="3768120"/>
                  <a:chExt cx="2419560" cy="1706760"/>
                </a:xfrm>
              </p:grpSpPr>
              <p:sp>
                <p:nvSpPr>
                  <p:cNvPr id="55" name="Arc 80"/>
                  <p:cNvSpPr/>
                  <p:nvPr/>
                </p:nvSpPr>
                <p:spPr>
                  <a:xfrm flipH="1">
                    <a:off x="3535560" y="3858840"/>
                    <a:ext cx="2217240" cy="161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" name="Group 81"/>
                  <p:cNvGrpSpPr/>
                  <p:nvPr/>
                </p:nvGrpSpPr>
                <p:grpSpPr>
                  <a:xfrm>
                    <a:off x="3435480" y="3768120"/>
                    <a:ext cx="2419560" cy="1195200"/>
                    <a:chOff x="3435480" y="3768120"/>
                    <a:chExt cx="2419560" cy="1195200"/>
                  </a:xfrm>
                </p:grpSpPr>
                <p:sp>
                  <p:nvSpPr>
                    <p:cNvPr id="57" name="AutoShape 82"/>
                    <p:cNvSpPr/>
                    <p:nvPr/>
                  </p:nvSpPr>
                  <p:spPr>
                    <a:xfrm>
                      <a:off x="4524840" y="3768120"/>
                      <a:ext cx="293760" cy="13644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AutoShape 83"/>
                    <p:cNvSpPr/>
                    <p:nvPr/>
                  </p:nvSpPr>
                  <p:spPr>
                    <a:xfrm rot="18823200">
                      <a:off x="3624840" y="406296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27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AutoShape 84"/>
                    <p:cNvSpPr/>
                    <p:nvPr/>
                  </p:nvSpPr>
                  <p:spPr>
                    <a:xfrm rot="15582600">
                      <a:off x="3411360" y="474552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AutoShape 85"/>
                    <p:cNvSpPr/>
                    <p:nvPr/>
                  </p:nvSpPr>
                  <p:spPr>
                    <a:xfrm flipH="1" rot="2776800">
                      <a:off x="5414760" y="406296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" name="AutoShape 86"/>
                    <p:cNvSpPr/>
                    <p:nvPr/>
                  </p:nvSpPr>
                  <p:spPr>
                    <a:xfrm flipH="1" rot="6017400">
                      <a:off x="5628600" y="474552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" name="Group 87"/>
                  <p:cNvGrpSpPr/>
                  <p:nvPr/>
                </p:nvGrpSpPr>
                <p:grpSpPr>
                  <a:xfrm>
                    <a:off x="3479040" y="3831120"/>
                    <a:ext cx="2331720" cy="1460880"/>
                    <a:chOff x="3479040" y="3831120"/>
                    <a:chExt cx="2331720" cy="1460880"/>
                  </a:xfrm>
                </p:grpSpPr>
                <p:sp>
                  <p:nvSpPr>
                    <p:cNvPr id="63" name="AutoShape 88"/>
                    <p:cNvSpPr/>
                    <p:nvPr/>
                  </p:nvSpPr>
                  <p:spPr>
                    <a:xfrm flipH="1" rot="6322200">
                      <a:off x="3463920" y="442656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5f5f5f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AutoShape 89"/>
                    <p:cNvSpPr/>
                    <p:nvPr/>
                  </p:nvSpPr>
                  <p:spPr>
                    <a:xfrm rot="15277800">
                      <a:off x="5574960" y="442656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5f5f5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AutoShape 90"/>
                    <p:cNvSpPr/>
                    <p:nvPr/>
                  </p:nvSpPr>
                  <p:spPr>
                    <a:xfrm flipH="1" rot="9476400">
                      <a:off x="4043160" y="3880800"/>
                      <a:ext cx="293760" cy="1368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70707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AutoShape 91"/>
                    <p:cNvSpPr/>
                    <p:nvPr/>
                  </p:nvSpPr>
                  <p:spPr>
                    <a:xfrm rot="12123600">
                      <a:off x="4978800" y="3881160"/>
                      <a:ext cx="293760" cy="13644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707070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AutoShape 92"/>
                    <p:cNvSpPr/>
                    <p:nvPr/>
                  </p:nvSpPr>
                  <p:spPr>
                    <a:xfrm rot="18618000">
                      <a:off x="5387760" y="506448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AutoShape 93"/>
                    <p:cNvSpPr/>
                    <p:nvPr/>
                  </p:nvSpPr>
                  <p:spPr>
                    <a:xfrm flipH="1" rot="2982000">
                      <a:off x="3650760" y="5064480"/>
                      <a:ext cx="250200" cy="160200"/>
                    </a:xfrm>
                    <a:prstGeom prst="upArrow">
                      <a:avLst>
                        <a:gd name="adj1" fmla="val 41667"/>
                        <a:gd name="adj2" fmla="val 45139"/>
                      </a:avLst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Group 94"/>
                <p:cNvGrpSpPr/>
                <p:nvPr/>
              </p:nvGrpSpPr>
              <p:grpSpPr>
                <a:xfrm>
                  <a:off x="4001760" y="5271840"/>
                  <a:ext cx="1315080" cy="215280"/>
                  <a:chOff x="4001760" y="5271840"/>
                  <a:chExt cx="1315080" cy="215280"/>
                </a:xfrm>
              </p:grpSpPr>
              <p:sp>
                <p:nvSpPr>
                  <p:cNvPr id="70" name="AutoShape 95"/>
                  <p:cNvSpPr/>
                  <p:nvPr/>
                </p:nvSpPr>
                <p:spPr>
                  <a:xfrm rot="1272000">
                    <a:off x="4020840" y="5305680"/>
                    <a:ext cx="213480" cy="147600"/>
                  </a:xfrm>
                  <a:prstGeom prst="rightArrow">
                    <a:avLst>
                      <a:gd name="adj1" fmla="val 12102"/>
                      <a:gd name="adj2" fmla="val 11854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96969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AutoShape 96"/>
                  <p:cNvSpPr/>
                  <p:nvPr/>
                </p:nvSpPr>
                <p:spPr>
                  <a:xfrm flipH="1" rot="20328000">
                    <a:off x="5083200" y="5305320"/>
                    <a:ext cx="213480" cy="147960"/>
                  </a:xfrm>
                  <a:prstGeom prst="rightArrow">
                    <a:avLst>
                      <a:gd name="adj1" fmla="val 12102"/>
                      <a:gd name="adj2" fmla="val 118251"/>
                    </a:avLst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97"/>
                <p:cNvGrpSpPr/>
                <p:nvPr/>
              </p:nvGrpSpPr>
              <p:grpSpPr>
                <a:xfrm>
                  <a:off x="3776400" y="4132440"/>
                  <a:ext cx="1735920" cy="841320"/>
                  <a:chOff x="3776400" y="4132440"/>
                  <a:chExt cx="1735920" cy="841320"/>
                </a:xfrm>
              </p:grpSpPr>
              <p:grpSp>
                <p:nvGrpSpPr>
                  <p:cNvPr id="73" name="Group 98"/>
                  <p:cNvGrpSpPr/>
                  <p:nvPr/>
                </p:nvGrpSpPr>
                <p:grpSpPr>
                  <a:xfrm>
                    <a:off x="4016520" y="4209480"/>
                    <a:ext cx="888840" cy="764280"/>
                    <a:chOff x="4016520" y="4209480"/>
                    <a:chExt cx="888840" cy="764280"/>
                  </a:xfrm>
                </p:grpSpPr>
                <p:sp>
                  <p:nvSpPr>
                    <p:cNvPr id="74" name="Arc 99"/>
                    <p:cNvSpPr/>
                    <p:nvPr/>
                  </p:nvSpPr>
                  <p:spPr>
                    <a:xfrm flipH="1">
                      <a:off x="4016520" y="4209480"/>
                      <a:ext cx="811440" cy="758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Arc 100"/>
                    <p:cNvSpPr/>
                    <p:nvPr/>
                  </p:nvSpPr>
                  <p:spPr>
                    <a:xfrm flipH="1">
                      <a:off x="4107240" y="4293720"/>
                      <a:ext cx="784800" cy="6526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Freeform 101"/>
                    <p:cNvSpPr/>
                    <p:nvPr/>
                  </p:nvSpPr>
                  <p:spPr>
                    <a:xfrm>
                      <a:off x="4803480" y="4898880"/>
                      <a:ext cx="101880" cy="74880"/>
                    </a:xfrm>
                    <a:prstGeom prst="pie">
                      <a:avLst/>
                    </a:prstGeom>
                    <a:solidFill>
                      <a:srgbClr val="b2b2b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Freeform 102"/>
                    <p:cNvSpPr/>
                    <p:nvPr/>
                  </p:nvSpPr>
                  <p:spPr>
                    <a:xfrm>
                      <a:off x="4353480" y="4212000"/>
                      <a:ext cx="55440" cy="810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Group 103"/>
                  <p:cNvGrpSpPr/>
                  <p:nvPr/>
                </p:nvGrpSpPr>
                <p:grpSpPr>
                  <a:xfrm>
                    <a:off x="4417560" y="4178160"/>
                    <a:ext cx="888840" cy="764280"/>
                    <a:chOff x="4417560" y="4178160"/>
                    <a:chExt cx="888840" cy="764280"/>
                  </a:xfrm>
                </p:grpSpPr>
                <p:grpSp>
                  <p:nvGrpSpPr>
                    <p:cNvPr id="79" name="Group 104"/>
                    <p:cNvGrpSpPr/>
                    <p:nvPr/>
                  </p:nvGrpSpPr>
                  <p:grpSpPr>
                    <a:xfrm>
                      <a:off x="4417560" y="4178160"/>
                      <a:ext cx="888840" cy="764280"/>
                      <a:chOff x="4417560" y="4178160"/>
                      <a:chExt cx="888840" cy="764280"/>
                    </a:xfrm>
                  </p:grpSpPr>
                  <p:sp>
                    <p:nvSpPr>
                      <p:cNvPr id="80" name="Arc 105"/>
                      <p:cNvSpPr/>
                      <p:nvPr/>
                    </p:nvSpPr>
                    <p:spPr>
                      <a:xfrm flipH="1" rot="10800000">
                        <a:off x="4494960" y="4183920"/>
                        <a:ext cx="811440" cy="758520"/>
                      </a:xfrm>
                      <a:prstGeom prst="pi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b2b2b2"/>
                          </a:gs>
                        </a:gsLst>
                        <a:lin ang="5400000"/>
                      </a:gra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Arc 106"/>
                      <p:cNvSpPr/>
                      <p:nvPr/>
                    </p:nvSpPr>
                    <p:spPr>
                      <a:xfrm flipH="1" rot="10800000">
                        <a:off x="4430880" y="4205520"/>
                        <a:ext cx="784800" cy="6526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Freeform 107"/>
                      <p:cNvSpPr/>
                      <p:nvPr/>
                    </p:nvSpPr>
                    <p:spPr>
                      <a:xfrm rot="10800000">
                        <a:off x="4417560" y="4178160"/>
                        <a:ext cx="101880" cy="74880"/>
                      </a:xfrm>
                      <a:prstGeom prst="pie">
                        <a:avLst/>
                      </a:prstGeom>
                      <a:solidFill>
                        <a:srgbClr val="b2b2b2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108"/>
                      <p:cNvSpPr/>
                      <p:nvPr/>
                    </p:nvSpPr>
                    <p:spPr>
                      <a:xfrm rot="10800000">
                        <a:off x="4914000" y="4858920"/>
                        <a:ext cx="55440" cy="8100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560" bIns="34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4" name="Oval 109"/>
                    <p:cNvSpPr/>
                    <p:nvPr/>
                  </p:nvSpPr>
                  <p:spPr>
                    <a:xfrm>
                      <a:off x="4764240" y="4701240"/>
                      <a:ext cx="160200" cy="204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WordArt 110"/>
                  <p:cNvSpPr txBox="1"/>
                  <p:nvPr/>
                </p:nvSpPr>
                <p:spPr>
                  <a:xfrm rot="14400">
                    <a:off x="4470480" y="4450680"/>
                    <a:ext cx="399960" cy="250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49935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292929"/>
                          </a:solidFill>
                          <a:miter/>
                        </a:ln>
                        <a:solidFill>
                          <a:srgbClr val="808080"/>
                        </a:solidFill>
                        <a:latin typeface="Comic Sans MS"/>
                      </a:rPr>
                      <a:t>Le</a:t>
                    </a:r>
                    <a:endParaRPr b="1" lang="en-US" sz="1800" spc="1" strike="noStrike">
                      <a:ln w="9360">
                        <a:solidFill>
                          <a:srgbClr val="292929"/>
                        </a:solidFill>
                        <a:miter/>
                      </a:ln>
                      <a:solidFill>
                        <a:srgbClr val="808080"/>
                      </a:solidFill>
                      <a:latin typeface="Comic Sans MS"/>
                      <a:ea typeface="Comic Sans MS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1" strike="noStrike">
                        <a:ln w="9360">
                          <a:solidFill>
                            <a:srgbClr val="292929"/>
                          </a:solidFill>
                          <a:miter/>
                        </a:ln>
                        <a:solidFill>
                          <a:srgbClr val="808080"/>
                        </a:solidFill>
                        <a:latin typeface="Comic Sans MS"/>
                      </a:rPr>
                      <a:t>Pauvre</a:t>
                    </a:r>
                    <a:endParaRPr b="1" lang="en-US" sz="1800" spc="1" strike="noStrike">
                      <a:ln w="9360">
                        <a:solidFill>
                          <a:srgbClr val="292929"/>
                        </a:solidFill>
                        <a:miter/>
                      </a:ln>
                      <a:solidFill>
                        <a:srgbClr val="808080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86" name="WordArt 111"/>
                  <p:cNvSpPr txBox="1"/>
                  <p:nvPr/>
                </p:nvSpPr>
                <p:spPr>
                  <a:xfrm>
                    <a:off x="5165280" y="4746600"/>
                    <a:ext cx="267120" cy="90720"/>
                  </a:xfrm>
                  <a:prstGeom prst="rect">
                    <a:avLst/>
                  </a:prstGeom>
                </p:spPr>
                <p:txBody>
                  <a:bodyPr wrap="none" lIns="90000" rIns="90000" tIns="44280" bIns="442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Naturel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87" name="WordArt 112"/>
                  <p:cNvSpPr txBox="1"/>
                  <p:nvPr/>
                </p:nvSpPr>
                <p:spPr>
                  <a:xfrm>
                    <a:off x="3936600" y="4837680"/>
                    <a:ext cx="383760" cy="90720"/>
                  </a:xfrm>
                  <a:prstGeom prst="rect">
                    <a:avLst/>
                  </a:prstGeom>
                </p:spPr>
                <p:txBody>
                  <a:bodyPr wrap="none" lIns="90000" rIns="90000" tIns="44280" bIns="442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Financier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88" name="WordArt 113"/>
                  <p:cNvSpPr txBox="1"/>
                  <p:nvPr/>
                </p:nvSpPr>
                <p:spPr>
                  <a:xfrm>
                    <a:off x="3776400" y="4473720"/>
                    <a:ext cx="303840" cy="1134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Physique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89" name="WordArt 114"/>
                  <p:cNvSpPr txBox="1"/>
                  <p:nvPr/>
                </p:nvSpPr>
                <p:spPr>
                  <a:xfrm>
                    <a:off x="5191920" y="4405320"/>
                    <a:ext cx="320400" cy="90720"/>
                  </a:xfrm>
                  <a:prstGeom prst="rect">
                    <a:avLst/>
                  </a:prstGeom>
                </p:spPr>
                <p:txBody>
                  <a:bodyPr wrap="none" lIns="90000" rIns="90000" tIns="44280" bIns="442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Personnel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90" name="WordArt 115"/>
                  <p:cNvSpPr txBox="1"/>
                  <p:nvPr/>
                </p:nvSpPr>
                <p:spPr>
                  <a:xfrm>
                    <a:off x="4844520" y="4132440"/>
                    <a:ext cx="293400" cy="964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Humain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91" name="WordArt 116"/>
                  <p:cNvSpPr txBox="1"/>
                  <p:nvPr/>
                </p:nvSpPr>
                <p:spPr>
                  <a:xfrm>
                    <a:off x="4096800" y="4177800"/>
                    <a:ext cx="250200" cy="90720"/>
                  </a:xfrm>
                  <a:prstGeom prst="rect">
                    <a:avLst/>
                  </a:prstGeom>
                </p:spPr>
                <p:txBody>
                  <a:bodyPr wrap="none" lIns="90000" rIns="90000" tIns="44280" bIns="442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333333"/>
                          </a:solidFill>
                          <a:miter/>
                        </a:ln>
                        <a:solidFill>
                          <a:srgbClr val="333333"/>
                        </a:solidFill>
                        <a:latin typeface="Comic Sans MS"/>
                      </a:rPr>
                      <a:t>Social</a:t>
                    </a:r>
                    <a:endParaRPr b="0" lang="en-US" sz="1400" spc="1" strike="noStrike">
                      <a:ln w="9360">
                        <a:solidFill>
                          <a:srgbClr val="333333"/>
                        </a:solidFill>
                        <a:miter/>
                      </a:ln>
                      <a:solidFill>
                        <a:srgbClr val="333333"/>
                      </a:solidFill>
                      <a:latin typeface="Comic Sans MS"/>
                      <a:ea typeface="Comic Sans MS"/>
                    </a:endParaRPr>
                  </a:p>
                </p:txBody>
              </p:sp>
              <p:sp>
                <p:nvSpPr>
                  <p:cNvPr id="92" name="WordArt 117"/>
                  <p:cNvSpPr txBox="1"/>
                  <p:nvPr/>
                </p:nvSpPr>
                <p:spPr>
                  <a:xfrm>
                    <a:off x="4176720" y="4291560"/>
                    <a:ext cx="961200" cy="56340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Up">
                      <a:avLst>
                        <a:gd name="adj" fmla="val 11325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Unicode MS"/>
                      </a:rPr>
                      <a:t>Genre  Age  Classe  Aptitude</a:t>
                    </a:r>
                    <a:endParaRPr b="0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Unicode MS"/>
                      <a:ea typeface="Arial Unicode MS"/>
                    </a:endParaRPr>
                  </a:p>
                </p:txBody>
              </p:sp>
              <p:sp>
                <p:nvSpPr>
                  <p:cNvPr id="93" name="WordArt 118"/>
                  <p:cNvSpPr txBox="1"/>
                  <p:nvPr/>
                </p:nvSpPr>
                <p:spPr>
                  <a:xfrm>
                    <a:off x="4203720" y="4428000"/>
                    <a:ext cx="881280" cy="432360"/>
                  </a:xfrm>
                  <a:prstGeom prst="rect">
                    <a:avLst/>
                  </a:prstGeom>
                </p:spPr>
                <p:txBody>
                  <a:bodyPr wrap="none" fromWordArt="1" lIns="90000" rIns="90000" tIns="46800" bIns="46800" anchor="t" anchorCtr="1">
                    <a:prstTxWarp prst="textArchDown">
                      <a:avLst>
                        <a:gd name="adj" fmla="val 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Unicode MS"/>
                      </a:rPr>
                      <a:t>Ethnic  History  Location</a:t>
                    </a:r>
                    <a:endParaRPr b="0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Unicode MS"/>
                      <a:ea typeface="Arial Unicode MS"/>
                    </a:endParaRPr>
                  </a:p>
                </p:txBody>
              </p:sp>
            </p:grpSp>
            <p:grpSp>
              <p:nvGrpSpPr>
                <p:cNvPr id="94" name="Group 119"/>
                <p:cNvGrpSpPr/>
                <p:nvPr/>
              </p:nvGrpSpPr>
              <p:grpSpPr>
                <a:xfrm>
                  <a:off x="3789360" y="4997160"/>
                  <a:ext cx="1709280" cy="707760"/>
                  <a:chOff x="3789360" y="4997160"/>
                  <a:chExt cx="1709280" cy="707760"/>
                </a:xfrm>
              </p:grpSpPr>
              <p:sp>
                <p:nvSpPr>
                  <p:cNvPr id="95" name="Arc 120"/>
                  <p:cNvSpPr/>
                  <p:nvPr/>
                </p:nvSpPr>
                <p:spPr>
                  <a:xfrm>
                    <a:off x="3789360" y="4997160"/>
                    <a:ext cx="684720" cy="5490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Arc 121"/>
                  <p:cNvSpPr/>
                  <p:nvPr/>
                </p:nvSpPr>
                <p:spPr>
                  <a:xfrm flipH="1">
                    <a:off x="4811760" y="4997160"/>
                    <a:ext cx="686520" cy="547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122"/>
                  <p:cNvSpPr/>
                  <p:nvPr/>
                </p:nvSpPr>
                <p:spPr>
                  <a:xfrm>
                    <a:off x="4150800" y="4997160"/>
                    <a:ext cx="986040" cy="123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d4d4d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23"/>
                  <p:cNvSpPr/>
                  <p:nvPr/>
                </p:nvSpPr>
                <p:spPr>
                  <a:xfrm>
                    <a:off x="4283280" y="5377680"/>
                    <a:ext cx="709200" cy="327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d4d4d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" name="WordArt 124"/>
                <p:cNvSpPr txBox="1"/>
                <p:nvPr/>
              </p:nvSpPr>
              <p:spPr>
                <a:xfrm rot="21597600">
                  <a:off x="4163760" y="4955400"/>
                  <a:ext cx="988560" cy="3870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317767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4d4d4d"/>
                      </a:solidFill>
                      <a:latin typeface="Comic Sans MS"/>
                    </a:rPr>
                    <a:t>ACTIONS</a:t>
                  </a:r>
                  <a:endPara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00" name="WordArt 125"/>
                <p:cNvSpPr txBox="1"/>
                <p:nvPr/>
              </p:nvSpPr>
              <p:spPr>
                <a:xfrm rot="21597600">
                  <a:off x="3811680" y="4705200"/>
                  <a:ext cx="1734480" cy="44712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1300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4d4d4d"/>
                      </a:solidFill>
                      <a:latin typeface="Comic Sans MS"/>
                    </a:rPr>
                    <a:t>Aspirations     Opportunités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101" name="Group 126"/>
              <p:cNvGrpSpPr/>
              <p:nvPr/>
            </p:nvGrpSpPr>
            <p:grpSpPr>
              <a:xfrm>
                <a:off x="2850840" y="3119760"/>
                <a:ext cx="3549960" cy="553320"/>
                <a:chOff x="2850840" y="3119760"/>
                <a:chExt cx="3549960" cy="553320"/>
              </a:xfrm>
            </p:grpSpPr>
            <p:grpSp>
              <p:nvGrpSpPr>
                <p:cNvPr id="102" name="Group 127"/>
                <p:cNvGrpSpPr/>
                <p:nvPr/>
              </p:nvGrpSpPr>
              <p:grpSpPr>
                <a:xfrm>
                  <a:off x="5649120" y="3119760"/>
                  <a:ext cx="751680" cy="553320"/>
                  <a:chOff x="5649120" y="3119760"/>
                  <a:chExt cx="751680" cy="553320"/>
                </a:xfrm>
              </p:grpSpPr>
              <p:sp>
                <p:nvSpPr>
                  <p:cNvPr id="103" name="Oval 128"/>
                  <p:cNvSpPr/>
                  <p:nvPr/>
                </p:nvSpPr>
                <p:spPr>
                  <a:xfrm rot="16200000">
                    <a:off x="5748120" y="3020400"/>
                    <a:ext cx="553320" cy="751680"/>
                  </a:xfrm>
                  <a:prstGeom prst="ellipse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WordArt 129"/>
                  <p:cNvSpPr txBox="1"/>
                  <p:nvPr/>
                </p:nvSpPr>
                <p:spPr>
                  <a:xfrm>
                    <a:off x="5763240" y="3254760"/>
                    <a:ext cx="524520" cy="283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</a:rPr>
                      <a:t>Prestataires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  <a:ea typeface="Comic Sans MS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</a:rPr>
                      <a:t>de Services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  <a:ea typeface="Comic Sans MS"/>
                    </a:endParaRPr>
                  </a:p>
                </p:txBody>
              </p:sp>
            </p:grpSp>
            <p:grpSp>
              <p:nvGrpSpPr>
                <p:cNvPr id="105" name="Group 130"/>
                <p:cNvGrpSpPr/>
                <p:nvPr/>
              </p:nvGrpSpPr>
              <p:grpSpPr>
                <a:xfrm>
                  <a:off x="2850840" y="3119760"/>
                  <a:ext cx="701280" cy="553320"/>
                  <a:chOff x="2850840" y="3119760"/>
                  <a:chExt cx="701280" cy="553320"/>
                </a:xfrm>
              </p:grpSpPr>
              <p:sp>
                <p:nvSpPr>
                  <p:cNvPr id="106" name="Oval 131"/>
                  <p:cNvSpPr/>
                  <p:nvPr/>
                </p:nvSpPr>
                <p:spPr>
                  <a:xfrm rot="16200000">
                    <a:off x="2924640" y="3045600"/>
                    <a:ext cx="553320" cy="701280"/>
                  </a:xfrm>
                  <a:prstGeom prst="ellipse">
                    <a:avLst/>
                  </a:prstGeom>
                  <a:solidFill>
                    <a:srgbClr val="f8f8f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WordArt 132"/>
                  <p:cNvSpPr txBox="1"/>
                  <p:nvPr/>
                </p:nvSpPr>
                <p:spPr>
                  <a:xfrm>
                    <a:off x="2953080" y="3261600"/>
                    <a:ext cx="525240" cy="283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</a:rPr>
                      <a:t>Agences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  <a:ea typeface="Comic Sans MS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Comic Sans MS"/>
                      </a:rPr>
                      <a:t>d'Habilitation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Comic Sans MS"/>
                      <a:ea typeface="Comic Sans MS"/>
                    </a:endParaRPr>
                  </a:p>
                </p:txBody>
              </p:sp>
            </p:grpSp>
            <p:sp>
              <p:nvSpPr>
                <p:cNvPr id="108" name="AutoShape 133"/>
                <p:cNvSpPr/>
                <p:nvPr/>
              </p:nvSpPr>
              <p:spPr>
                <a:xfrm>
                  <a:off x="3639600" y="3367800"/>
                  <a:ext cx="1972080" cy="141120"/>
                </a:xfrm>
                <a:prstGeom prst="leftRightArrow">
                  <a:avLst>
                    <a:gd name="adj1" fmla="val 50000"/>
                    <a:gd name="adj2" fmla="val 84817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134"/>
              <p:cNvGrpSpPr/>
              <p:nvPr/>
            </p:nvGrpSpPr>
            <p:grpSpPr>
              <a:xfrm>
                <a:off x="3508920" y="3574800"/>
                <a:ext cx="2231640" cy="772200"/>
                <a:chOff x="3508920" y="3574800"/>
                <a:chExt cx="2231640" cy="772200"/>
              </a:xfrm>
            </p:grpSpPr>
            <p:sp>
              <p:nvSpPr>
                <p:cNvPr id="110" name="AutoShape 135"/>
                <p:cNvSpPr/>
                <p:nvPr/>
              </p:nvSpPr>
              <p:spPr>
                <a:xfrm flipH="1" rot="3486600">
                  <a:off x="3411360" y="3856680"/>
                  <a:ext cx="776160" cy="202320"/>
                </a:xfrm>
                <a:prstGeom prst="leftRightArrow">
                  <a:avLst>
                    <a:gd name="adj1" fmla="val 36667"/>
                    <a:gd name="adj2" fmla="val 42998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136"/>
                <p:cNvSpPr/>
                <p:nvPr/>
              </p:nvSpPr>
              <p:spPr>
                <a:xfrm rot="18113400">
                  <a:off x="5060880" y="3862440"/>
                  <a:ext cx="776520" cy="202680"/>
                </a:xfrm>
                <a:prstGeom prst="leftRightArrow">
                  <a:avLst>
                    <a:gd name="adj1" fmla="val 36667"/>
                    <a:gd name="adj2" fmla="val 42942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WordArt 137"/>
              <p:cNvSpPr txBox="1"/>
              <p:nvPr/>
            </p:nvSpPr>
            <p:spPr>
              <a:xfrm rot="21597600">
                <a:off x="4099320" y="5765400"/>
                <a:ext cx="1176840" cy="15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59895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</a:rPr>
                  <a:t>INDICES D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</a:rPr>
                  <a:t>BIEN-ÊTR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13" name="Arc 138"/>
              <p:cNvSpPr/>
              <p:nvPr/>
            </p:nvSpPr>
            <p:spPr>
              <a:xfrm rot="10800000">
                <a:off x="3045960" y="3700440"/>
                <a:ext cx="855000" cy="2057400"/>
              </a:xfrm>
              <a:prstGeom prst="pie">
                <a:avLst/>
              </a:prstGeom>
              <a:noFill/>
              <a:ln w="76320">
                <a:solidFill>
                  <a:srgbClr val="c0c0c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WordArt 139"/>
              <p:cNvSpPr txBox="1"/>
              <p:nvPr/>
            </p:nvSpPr>
            <p:spPr>
              <a:xfrm rot="21597600">
                <a:off x="1943640" y="4119120"/>
                <a:ext cx="1253520" cy="278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</a:rPr>
                  <a:t>Résultats d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</a:rPr>
                  <a:t>Gouvernanc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15" name="Arc 140"/>
              <p:cNvSpPr/>
              <p:nvPr/>
            </p:nvSpPr>
            <p:spPr>
              <a:xfrm flipH="1" rot="10800000">
                <a:off x="5415840" y="3699000"/>
                <a:ext cx="854640" cy="2059200"/>
              </a:xfrm>
              <a:prstGeom prst="pie">
                <a:avLst/>
              </a:prstGeom>
              <a:noFill/>
              <a:ln w="76320">
                <a:solidFill>
                  <a:srgbClr val="c0c0c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WordArt 141"/>
              <p:cNvSpPr txBox="1"/>
              <p:nvPr/>
            </p:nvSpPr>
            <p:spPr>
              <a:xfrm rot="21597600">
                <a:off x="6137640" y="4119480"/>
                <a:ext cx="942840" cy="278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</a:rPr>
                  <a:t>Résultats de 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5f5f5f"/>
                    </a:solidFill>
                    <a:latin typeface="Comic Sans MS"/>
                  </a:rPr>
                  <a:t>Délivrance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5f5f5f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17" name="WordArt 142"/>
              <p:cNvSpPr txBox="1"/>
              <p:nvPr/>
            </p:nvSpPr>
            <p:spPr>
              <a:xfrm rot="7200">
                <a:off x="1655640" y="2063880"/>
                <a:ext cx="5831280" cy="37483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84802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66ff"/>
                    </a:solidFill>
                    <a:latin typeface="Comic Sans MS"/>
                  </a:rPr>
                  <a:t>Politiques   Cadre Légal    Ressources &amp; Mesures Incitatives</a:t>
                </a:r>
                <a:endPara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66ff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18" name="WordArt 143"/>
              <p:cNvSpPr txBox="1"/>
              <p:nvPr/>
            </p:nvSpPr>
            <p:spPr>
              <a:xfrm rot="7200">
                <a:off x="2051640" y="2309400"/>
                <a:ext cx="5034960" cy="27748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78464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3399"/>
                    </a:solidFill>
                    <a:latin typeface="Comic Sans MS"/>
                  </a:rPr>
                  <a:t>Contexte Institutionnel </a:t>
                </a:r>
                <a:endParaRPr b="1" lang="en-US" sz="32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Comic Sans MS"/>
                  <a:ea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04760"/>
            <a:ext cx="8424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Eras Bold ITC"/>
              </a:rPr>
              <a:t>Rester focaliser sur les Indices de bien – être des pauv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26"/>
          <p:cNvGrpSpPr/>
          <p:nvPr/>
        </p:nvGrpSpPr>
        <p:grpSpPr>
          <a:xfrm>
            <a:off x="1068840" y="1000080"/>
            <a:ext cx="6634440" cy="5522760"/>
            <a:chOff x="1068840" y="1000080"/>
            <a:chExt cx="6634440" cy="5522760"/>
          </a:xfrm>
        </p:grpSpPr>
        <p:sp>
          <p:nvSpPr>
            <p:cNvPr id="122" name="AutoShape 27"/>
            <p:cNvSpPr/>
            <p:nvPr/>
          </p:nvSpPr>
          <p:spPr>
            <a:xfrm>
              <a:off x="1088640" y="1000080"/>
              <a:ext cx="6593040" cy="55227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8"/>
            <p:cNvGrpSpPr/>
            <p:nvPr/>
          </p:nvGrpSpPr>
          <p:grpSpPr>
            <a:xfrm>
              <a:off x="1068840" y="1242360"/>
              <a:ext cx="6634440" cy="5037840"/>
              <a:chOff x="1068840" y="1242360"/>
              <a:chExt cx="6634440" cy="5037840"/>
            </a:xfrm>
          </p:grpSpPr>
          <p:sp>
            <p:nvSpPr>
              <p:cNvPr id="124" name="Oval 29"/>
              <p:cNvSpPr/>
              <p:nvPr/>
            </p:nvSpPr>
            <p:spPr>
              <a:xfrm>
                <a:off x="1826280" y="1688040"/>
                <a:ext cx="5117040" cy="414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WordArt 30"/>
              <p:cNvSpPr txBox="1"/>
              <p:nvPr/>
            </p:nvSpPr>
            <p:spPr>
              <a:xfrm rot="14400">
                <a:off x="3529800" y="3298680"/>
                <a:ext cx="1841040" cy="84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993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ffff"/>
                    </a:solidFill>
                    <a:latin typeface="Comic Sans MS"/>
                  </a:rPr>
                  <a:t>Indices de </a:t>
                </a:r>
                <a:endPara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ffff"/>
                  </a:solidFill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ffff"/>
                    </a:solidFill>
                    <a:latin typeface="Comic Sans MS"/>
                  </a:rPr>
                  <a:t>Bien-Être</a:t>
                </a:r>
                <a:endPara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ffff"/>
                  </a:solidFill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ffff"/>
                    </a:solidFill>
                    <a:latin typeface="Comic Sans MS"/>
                  </a:rPr>
                  <a:t>des Pauvres</a:t>
                </a:r>
                <a:endParaRPr b="1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00ffff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26" name="AutoShape 31"/>
              <p:cNvSpPr/>
              <p:nvPr/>
            </p:nvSpPr>
            <p:spPr>
              <a:xfrm rot="18578400">
                <a:off x="2059200" y="1027440"/>
                <a:ext cx="704160" cy="2708280"/>
              </a:xfrm>
              <a:prstGeom prst="upArrow">
                <a:avLst>
                  <a:gd name="adj1" fmla="val 50889"/>
                  <a:gd name="adj2" fmla="val 59383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32"/>
              <p:cNvSpPr/>
              <p:nvPr/>
            </p:nvSpPr>
            <p:spPr>
              <a:xfrm flipH="1" rot="3021600">
                <a:off x="6048720" y="1053360"/>
                <a:ext cx="706680" cy="2792880"/>
              </a:xfrm>
              <a:prstGeom prst="upArrow">
                <a:avLst>
                  <a:gd name="adj1" fmla="val 50889"/>
                  <a:gd name="adj2" fmla="val 61020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33"/>
              <p:cNvSpPr/>
              <p:nvPr/>
            </p:nvSpPr>
            <p:spPr>
              <a:xfrm flipH="1" flipV="1" rot="18578400">
                <a:off x="6012000" y="3759120"/>
                <a:ext cx="704880" cy="2693520"/>
              </a:xfrm>
              <a:prstGeom prst="upArrow">
                <a:avLst>
                  <a:gd name="adj1" fmla="val 50889"/>
                  <a:gd name="adj2" fmla="val 58999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34"/>
              <p:cNvSpPr/>
              <p:nvPr/>
            </p:nvSpPr>
            <p:spPr>
              <a:xfrm flipV="1" rot="3021600">
                <a:off x="2021040" y="3667320"/>
                <a:ext cx="706680" cy="2805120"/>
              </a:xfrm>
              <a:prstGeom prst="upArrow">
                <a:avLst>
                  <a:gd name="adj1" fmla="val 50889"/>
                  <a:gd name="adj2" fmla="val 61287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Group 35"/>
              <p:cNvGrpSpPr/>
              <p:nvPr/>
            </p:nvGrpSpPr>
            <p:grpSpPr>
              <a:xfrm>
                <a:off x="2847240" y="2661120"/>
                <a:ext cx="3215160" cy="2133360"/>
                <a:chOff x="2847240" y="2661120"/>
                <a:chExt cx="3215160" cy="2133360"/>
              </a:xfrm>
            </p:grpSpPr>
            <p:sp>
              <p:nvSpPr>
                <p:cNvPr id="131" name="WordArt 36"/>
                <p:cNvSpPr txBox="1"/>
                <p:nvPr/>
              </p:nvSpPr>
              <p:spPr>
                <a:xfrm rot="14400">
                  <a:off x="2851560" y="2667600"/>
                  <a:ext cx="3206520" cy="20494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19891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00ccff"/>
                      </a:solidFill>
                      <a:latin typeface="Comic Sans MS"/>
                    </a:rPr>
                    <a:t>Résultats de Délivrance    Résultats de Gouvernance</a:t>
                  </a:r>
                  <a:endPara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ccff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32" name="WordArt 37"/>
                <p:cNvSpPr txBox="1"/>
                <p:nvPr/>
              </p:nvSpPr>
              <p:spPr>
                <a:xfrm rot="14400">
                  <a:off x="2851560" y="2738160"/>
                  <a:ext cx="3206520" cy="20494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00ccff"/>
                      </a:solidFill>
                      <a:latin typeface="Comic Sans MS"/>
                    </a:rPr>
                    <a:t>Résultats de Délivrance   Résultats de Gouvernance</a:t>
                  </a:r>
                  <a:endPara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00ccf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133" name="Group 38"/>
              <p:cNvGrpSpPr/>
              <p:nvPr/>
            </p:nvGrpSpPr>
            <p:grpSpPr>
              <a:xfrm>
                <a:off x="2367360" y="2162160"/>
                <a:ext cx="4104360" cy="3125520"/>
                <a:chOff x="2367360" y="2162160"/>
                <a:chExt cx="4104360" cy="3125520"/>
              </a:xfrm>
            </p:grpSpPr>
            <p:sp>
              <p:nvSpPr>
                <p:cNvPr id="134" name="WordArt 39"/>
                <p:cNvSpPr txBox="1"/>
                <p:nvPr/>
              </p:nvSpPr>
              <p:spPr>
                <a:xfrm rot="14400">
                  <a:off x="2373480" y="2170440"/>
                  <a:ext cx="4090320" cy="30348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14904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0000ff"/>
                      </a:solidFill>
                      <a:latin typeface="Comic Sans MS"/>
                    </a:rPr>
                    <a:t>Arènes d'Action     Arènes d'Arenas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35" name="WordArt 40"/>
                <p:cNvSpPr txBox="1"/>
                <p:nvPr/>
              </p:nvSpPr>
              <p:spPr>
                <a:xfrm rot="14400">
                  <a:off x="2374920" y="2243520"/>
                  <a:ext cx="4090320" cy="303516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333399"/>
                        </a:solidFill>
                        <a:miter/>
                      </a:ln>
                      <a:solidFill>
                        <a:srgbClr val="0000ff"/>
                      </a:solidFill>
                      <a:latin typeface="Comic Sans MS"/>
                    </a:rPr>
                    <a:t>Arènes d'Actions     Arènes d'Actions</a:t>
                  </a:r>
                  <a:endParaRPr b="1" lang="en-US" sz="1800" spc="1" strike="noStrike">
                    <a:ln w="9360">
                      <a:solidFill>
                        <a:srgbClr val="333399"/>
                      </a:solidFill>
                      <a:miter/>
                    </a:ln>
                    <a:solidFill>
                      <a:srgbClr val="0000f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136" name="Group 41"/>
              <p:cNvGrpSpPr/>
              <p:nvPr/>
            </p:nvGrpSpPr>
            <p:grpSpPr>
              <a:xfrm>
                <a:off x="1820160" y="1737360"/>
                <a:ext cx="5135400" cy="4043520"/>
                <a:chOff x="1820160" y="1737360"/>
                <a:chExt cx="5135400" cy="4043520"/>
              </a:xfrm>
            </p:grpSpPr>
            <p:sp>
              <p:nvSpPr>
                <p:cNvPr id="137" name="WordArt 42"/>
                <p:cNvSpPr txBox="1"/>
                <p:nvPr/>
              </p:nvSpPr>
              <p:spPr>
                <a:xfrm rot="14400">
                  <a:off x="1895040" y="1747800"/>
                  <a:ext cx="5047560" cy="39524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1100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333399"/>
                      </a:solidFill>
                      <a:latin typeface="Comic Sans MS"/>
                    </a:rPr>
                    <a:t>Institutional Context   Institutional Context</a:t>
                  </a:r>
                  <a:endPara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3399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38" name="WordArt 43"/>
                <p:cNvSpPr txBox="1"/>
                <p:nvPr/>
              </p:nvSpPr>
              <p:spPr>
                <a:xfrm rot="14400">
                  <a:off x="1828080" y="1818000"/>
                  <a:ext cx="5118840" cy="39520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0080"/>
                        </a:solidFill>
                        <a:miter/>
                      </a:ln>
                      <a:solidFill>
                        <a:srgbClr val="333399"/>
                      </a:solidFill>
                      <a:latin typeface="Comic Sans MS"/>
                    </a:rPr>
                    <a:t>Contexte Institutionnel   Contexte Institutionnel</a:t>
                  </a:r>
                  <a:endParaRPr b="1" lang="en-US" sz="18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3399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139" name="Group 44"/>
              <p:cNvGrpSpPr/>
              <p:nvPr/>
            </p:nvGrpSpPr>
            <p:grpSpPr>
              <a:xfrm>
                <a:off x="1340280" y="1242360"/>
                <a:ext cx="6023160" cy="5037840"/>
                <a:chOff x="1340280" y="1242360"/>
                <a:chExt cx="6023160" cy="5037840"/>
              </a:xfrm>
            </p:grpSpPr>
            <p:sp>
              <p:nvSpPr>
                <p:cNvPr id="140" name="WordArt 45"/>
                <p:cNvSpPr txBox="1"/>
                <p:nvPr/>
              </p:nvSpPr>
              <p:spPr>
                <a:xfrm rot="14400">
                  <a:off x="1416960" y="1254600"/>
                  <a:ext cx="5934600" cy="48704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062438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3366"/>
                        </a:solidFill>
                        <a:miter/>
                      </a:ln>
                      <a:solidFill>
                        <a:srgbClr val="000080"/>
                      </a:solidFill>
                      <a:latin typeface="Comic Sans MS"/>
                    </a:rPr>
                    <a:t>Pouvoirs &amp; Processus   Pouvoirs &amp; Processus</a:t>
                  </a:r>
                  <a:endParaRPr b="1" lang="en-US" sz="1800" spc="1" strike="noStrike">
                    <a:ln w="9360">
                      <a:solidFill>
                        <a:srgbClr val="003366"/>
                      </a:solidFill>
                      <a:miter/>
                    </a:ln>
                    <a:solidFill>
                      <a:srgbClr val="000080"/>
                    </a:solidFill>
                    <a:latin typeface="Comic Sans MS"/>
                    <a:ea typeface="Comic Sans MS"/>
                  </a:endParaRPr>
                </a:p>
              </p:txBody>
            </p:sp>
            <p:sp>
              <p:nvSpPr>
                <p:cNvPr id="141" name="WordArt 46"/>
                <p:cNvSpPr txBox="1"/>
                <p:nvPr/>
              </p:nvSpPr>
              <p:spPr>
                <a:xfrm rot="14400">
                  <a:off x="1350360" y="1396800"/>
                  <a:ext cx="6002640" cy="487044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Down">
                    <a:avLst>
                      <a:gd name="adj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003366"/>
                        </a:solidFill>
                        <a:miter/>
                      </a:ln>
                      <a:solidFill>
                        <a:srgbClr val="000080"/>
                      </a:solidFill>
                      <a:latin typeface="Comic Sans MS"/>
                    </a:rPr>
                    <a:t>Pouvoirs &amp; Processus   Pouvoirs &amp; Processus</a:t>
                  </a:r>
                  <a:endParaRPr b="1" lang="en-US" sz="1800" spc="1" strike="noStrike">
                    <a:ln w="9360">
                      <a:solidFill>
                        <a:srgbClr val="003366"/>
                      </a:solidFill>
                      <a:miter/>
                    </a:ln>
                    <a:solidFill>
                      <a:srgbClr val="000080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erner les mécanismes de pouvoi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2133720"/>
            <a:ext cx="76197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efinir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Comprendre les liens d’authority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– relations et niveaux de sub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Influenc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– comment différents acteurs utilisent les relations pour influencer les comportements des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9640" y="907920"/>
            <a:ext cx="822960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i a l’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autorité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ou l’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influenc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sur qui, dans une relat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cette autorité ou influence se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anifest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ou s’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exerc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t-ell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Jusqu’où cette autorité ou influence est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fort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arènes ou sphères spécifiqu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cette autorité ou influence touch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D’où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vient cette autorité ou influence &amp; comment est-elle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aintenu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 (legitim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Dans quelle mesure dépend-elle d’un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individu spécifique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(champion ou patron…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bénéfices dérivent de ceette autorité? Au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profit de qui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5040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Comprendre les mécanismes de pouv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s “règles du jeu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0880" y="1219320"/>
            <a:ext cx="83822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Normes de comportement “institutionnalisé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Non formalisés et souvent pas facilement reconnu ou accep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Fortement lié aux conditions culturelles, sociales, historiques &amp; 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iées aux valeurs du système (parfois des valeurs religieu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Important, parce que contribue souvent à maintenanir les relations de pouvoirs ex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s Tractations Poli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57200" y="863640"/>
            <a:ext cx="8381880" cy="51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tractations politiques sont différentes des politiques – C’est le flux &amp; l’exercice du pouvoir au sein d’un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’Arène Politiq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i sont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acteur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sont leur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rôl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? (qui a l’influence sur quoi et qui</a:t>
            </a: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sont leur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inter-relation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l’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influence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est-elle exercé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sont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ressourc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deploy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sont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motivation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en je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sont les règles (formelles &amp; informelles) en je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Bold ITC"/>
              </a:rPr>
              <a:t>La Culture &amp; les Tra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55640" y="907920"/>
            <a:ext cx="798192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a Cultures &amp; traditions vont générer les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norme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et </a:t>
            </a:r>
            <a:r>
              <a:rPr b="1" lang="en-GB" sz="2400" spc="-1" strike="noStrike">
                <a:solidFill>
                  <a:srgbClr val="000000"/>
                </a:solidFill>
                <a:latin typeface="Eras Bold ITC"/>
              </a:rPr>
              <a:t>valeurs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en vigueur, lesquelles vont affecter les comportements des acteurs &amp; age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Très dyna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la culture en vigueur affec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Acteurs (</a:t>
            </a:r>
            <a:r>
              <a:rPr b="0" i="1" lang="en-GB" sz="2400" spc="-1" strike="noStrike">
                <a:solidFill>
                  <a:srgbClr val="000000"/>
                </a:solidFill>
                <a:latin typeface="Eras Bold ITC"/>
              </a:rPr>
              <a:t>genre, ethnicité, âge, castes, classes, habilité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urs rôles &amp; int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a manière dont les ressources sont rendues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règles du j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Les mo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s Dr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6765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sont les droits reconnus? (ou éludés, nié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sont-ils articulés? Constitutions, choix collectifs, règles opérationnelles, règles écrites, non éc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sont-elles articulées avec les conventions &amp; accords internationaux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A qui s’appliquent-ils? Qui dénient-il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e la dat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lier 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Eras Bold ITC"/>
              </a:rPr>
              <a:t>Les March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55640" y="1125360"/>
            <a:ext cx="7620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’est-ce qui en détermine le fonctionne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s mécanismes de contrôle, de régulation sont en pla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distorsions pouvons nous const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tout ceci est articul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Comment tout ceci affecte les biens et services et les indices de bien-être des pauvr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Eras Bold ITC"/>
              </a:rPr>
              <a:t>Quelles sont les arènes impliqué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6:33:48Z</dcterms:created>
  <dc:creator>Philip Townsley</dc:creator>
  <dc:description/>
  <dc:language>en-US</dc:language>
  <cp:lastModifiedBy>Alain ONIBON</cp:lastModifiedBy>
  <dcterms:modified xsi:type="dcterms:W3CDTF">2007-07-22T20:45:06Z</dcterms:modified>
  <cp:revision>14</cp:revision>
  <dc:subject/>
  <dc:title>Culture</dc:title>
</cp:coreProperties>
</file>