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CE04-21D7-4993-B4E8-A1AFB58236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DEC1-B0DF-4C4E-81D2-859CDD6065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4AD-0313-4BA2-84D4-F7D17DDB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C57A-DA5C-46BF-9BEB-B7364B74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4E37-1E8A-48E1-ADA3-B2560019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97A5-D335-4829-8983-21A098F9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B5FF-69D5-4641-9F06-2809A103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33D2-209A-497B-BBCE-62CA5AA3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FCA0-7DC2-4D80-A42C-08E8DABF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79F-3612-4275-BFF1-20FDBCF7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22B-C2FF-4FEB-A3B6-A25E18A0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54AB-6A67-45C0-9344-06BBCF0D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BB10-4658-4274-9457-121EFDB2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8F20-32EB-44C5-8560-DCF0A744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Eras Light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Eras Light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Eras Light ITC"/>
              </a:rPr>
              <a:t>Cameroun 07 au  11 Mai 2007</a:t>
            </a:r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Eras Light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C2EC-4CFF-49D0-960E-568FB050F6EA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e la date 2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49" name="Espace réservé du pied de page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50" name="Espace réservé du numéro de diapositive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F519-7AB9-4DDF-8DF3-E4350732C1D4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785880" y="27147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Eras Bold ITC"/>
              </a:rPr>
              <a:t>Annexe 9  - Présentation 4 au Burkina et au Cameroun</a:t>
            </a:r>
            <a:endParaRPr b="0" lang="en-US" sz="2000" spc="-1" strike="noStrike">
              <a:solidFill>
                <a:srgbClr val="993300"/>
              </a:solidFill>
              <a:latin typeface="Eras Bold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Analyser le Contexte Institutionnel</a:t>
            </a:r>
            <a:endParaRPr b="0" lang="en-US" sz="3200" spc="-1" strike="noStrike">
              <a:solidFill>
                <a:srgbClr val="9933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e la date 2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77" name="Espace réservé du pied de page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78" name="Espace réservé du numéro de diapositive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BA92-0FD9-426B-AA54-FD043F925888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Res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85800" y="838080"/>
            <a:ext cx="77724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Qui décide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de l’allocation des ressources?  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Quels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sont leurs rôles respectifs ?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Comment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inter agissent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 – ils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?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Quels mécanismes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permettent de décider de l’allocation des ressources? (pas nécessairement formels, mécanisms formels)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De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Quelles ressources hat resources disposent ces acteurs pour travailler? 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Quelles sont les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règles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qui régissent le processus ? (</a:t>
            </a:r>
            <a:r>
              <a:rPr b="0" i="1" lang="en-GB" sz="2400" spc="-1" strike="noStrike">
                <a:solidFill>
                  <a:srgbClr val="000000"/>
                </a:solidFill>
                <a:latin typeface="Eras Bold ITC"/>
              </a:rPr>
              <a:t>règles relatives, règles omises, transparence, réddition des comptes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)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Espace réservé de la date 2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82" name="Espace réservé du pied de page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Eras Light ITC"/>
              </a:rPr>
              <a:t>Cameroun 07 au  11 Mai 2007</a:t>
            </a:r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83" name="Espace réservé du numéro de diapositive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3CAE-7DA0-4960-A4FC-49D17157AAE5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Bold ITC"/>
              </a:rPr>
              <a:t>Motiv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826920" y="1413000"/>
            <a:ext cx="754380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ras Bold ITC"/>
              </a:rPr>
              <a:t>Quelles motivations opèrent pour faire fonctionner le système? </a:t>
            </a:r>
            <a:endParaRPr b="0" lang="en-US" sz="28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Motivations Financières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– gains, revenus, etc.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Motivations Sociales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– statuts, respect, reciprocité,, etc.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Motivations liées au pouvoir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– controle des gens, des resources, des mécanismes décisionnels;  patronnage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Leviers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– a quelles motivations les acteurs et agences vont-ils répondre?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Espace réservé de la date 2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87" name="Espace réservé du numéro de diapositive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4B7D-2C86-4085-BA77-16E830A338C3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Outils et &amp; Instr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066680" y="1676520"/>
            <a:ext cx="70106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Quels outils &amp; instruments sont disponibles pour :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Collecter les informations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Mettre en oeuvre les politiques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Monitorer leurs effets/impacts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Les informations pour la rétro actions 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Exercer une influence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Exprimer une voix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e la date 2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53" name="Espace réservé du pied de page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54" name="Espace réservé du numéro de diapositive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F1F7-14DE-4D2A-8862-3EAD0A8D0219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Analyser le Contexte Institutio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68"/>
          <p:cNvGrpSpPr/>
          <p:nvPr/>
        </p:nvGrpSpPr>
        <p:grpSpPr>
          <a:xfrm>
            <a:off x="250920" y="404640"/>
            <a:ext cx="8497800" cy="5761080"/>
            <a:chOff x="250920" y="404640"/>
            <a:chExt cx="8497800" cy="5761080"/>
          </a:xfrm>
        </p:grpSpPr>
        <p:sp>
          <p:nvSpPr>
            <p:cNvPr id="57" name="Oval 69"/>
            <p:cNvSpPr/>
            <p:nvPr/>
          </p:nvSpPr>
          <p:spPr>
            <a:xfrm>
              <a:off x="250920" y="404640"/>
              <a:ext cx="8497800" cy="57610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993300"/>
                </a:solidFill>
                <a:latin typeface="Eras Bold ITC"/>
              </a:endParaRPr>
            </a:p>
          </p:txBody>
        </p:sp>
        <p:grpSp>
          <p:nvGrpSpPr>
            <p:cNvPr id="58" name="Group 70"/>
            <p:cNvGrpSpPr/>
            <p:nvPr/>
          </p:nvGrpSpPr>
          <p:grpSpPr>
            <a:xfrm>
              <a:off x="1260720" y="1492200"/>
              <a:ext cx="6474960" cy="4596480"/>
              <a:chOff x="1260720" y="1492200"/>
              <a:chExt cx="6474960" cy="4596480"/>
            </a:xfrm>
          </p:grpSpPr>
          <p:grpSp>
            <p:nvGrpSpPr>
              <p:cNvPr id="59" name="Group 71"/>
              <p:cNvGrpSpPr/>
              <p:nvPr/>
            </p:nvGrpSpPr>
            <p:grpSpPr>
              <a:xfrm>
                <a:off x="1401840" y="1492200"/>
                <a:ext cx="6191640" cy="3344040"/>
                <a:chOff x="1401840" y="1492200"/>
                <a:chExt cx="6191640" cy="3344040"/>
              </a:xfrm>
            </p:grpSpPr>
            <p:sp>
              <p:nvSpPr>
                <p:cNvPr id="60" name="Oval 72"/>
                <p:cNvSpPr/>
                <p:nvPr/>
              </p:nvSpPr>
              <p:spPr>
                <a:xfrm>
                  <a:off x="1401840" y="1492200"/>
                  <a:ext cx="6191640" cy="3249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ecff"/>
                    </a:gs>
                    <a:gs pos="100000">
                      <a:srgbClr val="99cc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buClr>
                      <a:srgbClr val="993300"/>
                    </a:buClr>
                    <a:buFont typeface="Eras Bold ITC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00"/>
                    </a:solidFill>
                    <a:latin typeface="Eras Bold ITC"/>
                  </a:endParaRPr>
                </a:p>
              </p:txBody>
            </p:sp>
            <p:sp>
              <p:nvSpPr>
                <p:cNvPr id="61" name="WordArt 73"/>
                <p:cNvSpPr txBox="1"/>
                <p:nvPr/>
              </p:nvSpPr>
              <p:spPr>
                <a:xfrm rot="21586200">
                  <a:off x="3246480" y="2060640"/>
                  <a:ext cx="2505600" cy="42120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1893674"/>
                    </a:avLst>
                  </a:prstTxWarp>
                  <a:noAutofit/>
                </a:bodyPr>
                <a:p>
                  <a:pPr>
                    <a:buClr>
                      <a:srgbClr val="993300"/>
                    </a:buClr>
                    <a:buFont typeface="Eras Bold ITC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80"/>
                        </a:solidFill>
                        <a:miter/>
                      </a:ln>
                      <a:solidFill>
                        <a:srgbClr val="0000ff"/>
                      </a:solidFill>
                      <a:latin typeface="Comic Sans MS"/>
                    </a:rPr>
                    <a:t>Action Arenas</a:t>
                  </a:r>
                  <a:endParaRPr b="1" lang="en-US" sz="1800" spc="1" strike="noStrike">
                    <a:ln w="9360">
                      <a:solidFill>
                        <a:srgbClr val="000080"/>
                      </a:solidFill>
                      <a:miter/>
                    </a:ln>
                    <a:solidFill>
                      <a:srgbClr val="0000ff"/>
                    </a:solidFill>
                    <a:latin typeface="Comic Sans MS"/>
                    <a:ea typeface="Comic Sans MS"/>
                  </a:endParaRPr>
                </a:p>
              </p:txBody>
            </p:sp>
            <p:sp>
              <p:nvSpPr>
                <p:cNvPr id="62" name="WordArt 74"/>
                <p:cNvSpPr txBox="1"/>
                <p:nvPr/>
              </p:nvSpPr>
              <p:spPr>
                <a:xfrm rot="21586200">
                  <a:off x="1528560" y="1652400"/>
                  <a:ext cx="5938920" cy="317160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1617548"/>
                    </a:avLst>
                  </a:prstTxWarp>
                  <a:noAutofit/>
                </a:bodyPr>
                <a:p>
                  <a:pPr>
                    <a:buClr>
                      <a:srgbClr val="993300"/>
                    </a:buClr>
                    <a:buFont typeface="Eras Bold ITC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1" strike="noStrike">
                      <a:ln w="9360">
                        <a:solidFill>
                          <a:srgbClr val="000080"/>
                        </a:solidFill>
                        <a:miter/>
                      </a:ln>
                      <a:solidFill>
                        <a:srgbClr val="0000ff"/>
                      </a:solidFill>
                      <a:latin typeface="Comic Sans MS"/>
                    </a:rPr>
                    <a:t>Acteurs  Rôles &amp; Responsibilités   Relations  Règles &amp; Motivations</a:t>
                  </a:r>
                  <a:endParaRPr b="1" lang="en-US" sz="1600" spc="1" strike="noStrike">
                    <a:ln w="9360">
                      <a:solidFill>
                        <a:srgbClr val="000080"/>
                      </a:solidFill>
                      <a:miter/>
                    </a:ln>
                    <a:solidFill>
                      <a:srgbClr val="0000ff"/>
                    </a:solidFill>
                    <a:latin typeface="Comic Sans MS"/>
                    <a:ea typeface="Comic Sans MS"/>
                  </a:endParaRPr>
                </a:p>
              </p:txBody>
            </p:sp>
          </p:grpSp>
          <p:grpSp>
            <p:nvGrpSpPr>
              <p:cNvPr id="63" name="Group 75"/>
              <p:cNvGrpSpPr/>
              <p:nvPr/>
            </p:nvGrpSpPr>
            <p:grpSpPr>
              <a:xfrm>
                <a:off x="1260720" y="2355120"/>
                <a:ext cx="6474960" cy="3733560"/>
                <a:chOff x="1260720" y="2355120"/>
                <a:chExt cx="6474960" cy="3733560"/>
              </a:xfrm>
            </p:grpSpPr>
            <p:grpSp>
              <p:nvGrpSpPr>
                <p:cNvPr id="64" name="Group 76"/>
                <p:cNvGrpSpPr/>
                <p:nvPr/>
              </p:nvGrpSpPr>
              <p:grpSpPr>
                <a:xfrm>
                  <a:off x="2787120" y="3035520"/>
                  <a:ext cx="3647160" cy="2786760"/>
                  <a:chOff x="2787120" y="3035520"/>
                  <a:chExt cx="3647160" cy="2786760"/>
                </a:xfrm>
              </p:grpSpPr>
              <p:sp>
                <p:nvSpPr>
                  <p:cNvPr id="65" name="Arc 77"/>
                  <p:cNvSpPr/>
                  <p:nvPr/>
                </p:nvSpPr>
                <p:spPr>
                  <a:xfrm flipH="1">
                    <a:off x="2786760" y="3035520"/>
                    <a:ext cx="3647160" cy="2454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c1c1c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buClr>
                        <a:srgbClr val="993300"/>
                      </a:buClr>
                      <a:buFont typeface="Eras Bold ITC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993300"/>
                      </a:solidFill>
                      <a:latin typeface="Eras Bold ITC"/>
                    </a:endParaRPr>
                  </a:p>
                </p:txBody>
              </p:sp>
              <p:sp>
                <p:nvSpPr>
                  <p:cNvPr id="66" name="WordArt 78"/>
                  <p:cNvSpPr txBox="1"/>
                  <p:nvPr/>
                </p:nvSpPr>
                <p:spPr>
                  <a:xfrm rot="65400">
                    <a:off x="2956320" y="3155760"/>
                    <a:ext cx="3271680" cy="2635200"/>
                  </a:xfrm>
                  <a:prstGeom prst="rect">
                    <a:avLst/>
                  </a:prstGeom>
                </p:spPr>
                <p:txBody>
                  <a:bodyPr wrap="none" fromWordArt="1" lIns="90000" rIns="90000" tIns="46800" bIns="46800" anchor="t" anchorCtr="1">
                    <a:prstTxWarp prst="textArchUp">
                      <a:avLst>
                        <a:gd name="adj" fmla="val 10620900"/>
                      </a:avLst>
                    </a:prstTxWarp>
                    <a:noAutofit/>
                  </a:bodyPr>
                  <a:p>
                    <a:pPr>
                      <a:buClr>
                        <a:srgbClr val="993300"/>
                      </a:buClr>
                      <a:buFont typeface="Eras Bold ITC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Comic Sans MS"/>
                      </a:rPr>
                      <a:t>VULNERABILITE - Chocs Saisonnalité Tendances - VULNERABILITE</a:t>
                    </a:r>
                    <a:endParaRPr b="1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Comic Sans MS"/>
                      <a:ea typeface="Comic Sans MS"/>
                    </a:endParaRPr>
                  </a:p>
                </p:txBody>
              </p:sp>
              <p:grpSp>
                <p:nvGrpSpPr>
                  <p:cNvPr id="67" name="Group 79"/>
                  <p:cNvGrpSpPr/>
                  <p:nvPr/>
                </p:nvGrpSpPr>
                <p:grpSpPr>
                  <a:xfrm>
                    <a:off x="3033360" y="3217320"/>
                    <a:ext cx="3121920" cy="2272680"/>
                    <a:chOff x="3033360" y="3217320"/>
                    <a:chExt cx="3121920" cy="2272680"/>
                  </a:xfrm>
                </p:grpSpPr>
                <p:sp>
                  <p:nvSpPr>
                    <p:cNvPr id="68" name="Arc 80"/>
                    <p:cNvSpPr/>
                    <p:nvPr/>
                  </p:nvSpPr>
                  <p:spPr>
                    <a:xfrm flipH="1">
                      <a:off x="3164760" y="3338280"/>
                      <a:ext cx="2859120" cy="2151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993300"/>
                        </a:buClr>
                        <a:buFont typeface="Eras Bold IT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93300"/>
                        </a:solidFill>
                        <a:latin typeface="Eras Bold ITC"/>
                      </a:endParaRPr>
                    </a:p>
                  </p:txBody>
                </p:sp>
                <p:grpSp>
                  <p:nvGrpSpPr>
                    <p:cNvPr id="69" name="Group 81"/>
                    <p:cNvGrpSpPr/>
                    <p:nvPr/>
                  </p:nvGrpSpPr>
                  <p:grpSpPr>
                    <a:xfrm>
                      <a:off x="3033360" y="3217320"/>
                      <a:ext cx="3121920" cy="1590840"/>
                      <a:chOff x="3033360" y="3217320"/>
                      <a:chExt cx="3121920" cy="1590840"/>
                    </a:xfrm>
                  </p:grpSpPr>
                  <p:sp>
                    <p:nvSpPr>
                      <p:cNvPr id="70" name="AutoShape 82"/>
                      <p:cNvSpPr/>
                      <p:nvPr/>
                    </p:nvSpPr>
                    <p:spPr>
                      <a:xfrm>
                        <a:off x="4439160" y="3217320"/>
                        <a:ext cx="378720" cy="181800"/>
                      </a:xfrm>
                      <a:prstGeom prst="upArrow">
                        <a:avLst>
                          <a:gd name="adj1" fmla="val 41667"/>
                          <a:gd name="adj2" fmla="val 45139"/>
                        </a:avLst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dddddd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buClr>
                            <a:srgbClr val="993300"/>
                          </a:buClr>
                          <a:buFont typeface="Eras Bold ITC"/>
                          <a:buChar char="•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993300"/>
                          </a:solidFill>
                          <a:latin typeface="Eras Bold ITC"/>
                        </a:endParaRPr>
                      </a:p>
                    </p:txBody>
                  </p:sp>
                  <p:sp>
                    <p:nvSpPr>
                      <p:cNvPr id="71" name="AutoShape 83"/>
                      <p:cNvSpPr/>
                      <p:nvPr/>
                    </p:nvSpPr>
                    <p:spPr>
                      <a:xfrm rot="18823200">
                        <a:off x="3273480" y="3613680"/>
                        <a:ext cx="333000" cy="206640"/>
                      </a:xfrm>
                      <a:prstGeom prst="upArrow">
                        <a:avLst>
                          <a:gd name="adj1" fmla="val 41667"/>
                          <a:gd name="adj2" fmla="val 45139"/>
                        </a:avLst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dddddd"/>
                          </a:gs>
                        </a:gsLst>
                        <a:lin ang="27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buClr>
                            <a:srgbClr val="993300"/>
                          </a:buClr>
                          <a:buFont typeface="Eras Bold ITC"/>
                          <a:buChar char="•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993300"/>
                          </a:solidFill>
                          <a:latin typeface="Eras Bold ITC"/>
                        </a:endParaRPr>
                      </a:p>
                    </p:txBody>
                  </p:sp>
                  <p:sp>
                    <p:nvSpPr>
                      <p:cNvPr id="72" name="AutoShape 84"/>
                      <p:cNvSpPr/>
                      <p:nvPr/>
                    </p:nvSpPr>
                    <p:spPr>
                      <a:xfrm rot="15582600">
                        <a:off x="2998080" y="4522320"/>
                        <a:ext cx="333000" cy="206640"/>
                      </a:xfrm>
                      <a:prstGeom prst="upArrow">
                        <a:avLst>
                          <a:gd name="adj1" fmla="val 41667"/>
                          <a:gd name="adj2" fmla="val 45139"/>
                        </a:avLst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dddddd"/>
                          </a:gs>
                        </a:gsLst>
                        <a:lin ang="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buClr>
                            <a:srgbClr val="993300"/>
                          </a:buClr>
                          <a:buFont typeface="Eras Bold ITC"/>
                          <a:buChar char="•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993300"/>
                          </a:solidFill>
                          <a:latin typeface="Eras Bold ITC"/>
                        </a:endParaRPr>
                      </a:p>
                    </p:txBody>
                  </p:sp>
                  <p:sp>
                    <p:nvSpPr>
                      <p:cNvPr id="73" name="AutoShape 85"/>
                      <p:cNvSpPr/>
                      <p:nvPr/>
                    </p:nvSpPr>
                    <p:spPr>
                      <a:xfrm flipH="1" rot="2776800">
                        <a:off x="5581440" y="3613320"/>
                        <a:ext cx="333000" cy="206640"/>
                      </a:xfrm>
                      <a:prstGeom prst="upArrow">
                        <a:avLst>
                          <a:gd name="adj1" fmla="val 41667"/>
                          <a:gd name="adj2" fmla="val 45139"/>
                        </a:avLst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189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buClr>
                            <a:srgbClr val="993300"/>
                          </a:buClr>
                          <a:buFont typeface="Eras Bold ITC"/>
                          <a:buChar char="•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993300"/>
                          </a:solidFill>
                          <a:latin typeface="Eras Bold ITC"/>
                        </a:endParaRPr>
                      </a:p>
                    </p:txBody>
                  </p:sp>
                  <p:sp>
                    <p:nvSpPr>
                      <p:cNvPr id="74" name="AutoShape 86"/>
                      <p:cNvSpPr/>
                      <p:nvPr/>
                    </p:nvSpPr>
                    <p:spPr>
                      <a:xfrm flipH="1" rot="6017400">
                        <a:off x="5857200" y="4522320"/>
                        <a:ext cx="333000" cy="206640"/>
                      </a:xfrm>
                      <a:prstGeom prst="upArrow">
                        <a:avLst>
                          <a:gd name="adj1" fmla="val 41667"/>
                          <a:gd name="adj2" fmla="val 45139"/>
                        </a:avLst>
                      </a:pr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ffffff"/>
                          </a:gs>
                        </a:gsLst>
                        <a:lin ang="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buClr>
                            <a:srgbClr val="993300"/>
                          </a:buClr>
                          <a:buFont typeface="Eras Bold ITC"/>
                          <a:buChar char="•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993300"/>
                          </a:solidFill>
                          <a:latin typeface="Eras Bold ITC"/>
                        </a:endParaRPr>
                      </a:p>
                    </p:txBody>
                  </p:sp>
                </p:grpSp>
                <p:grpSp>
                  <p:nvGrpSpPr>
                    <p:cNvPr id="75" name="Group 87"/>
                    <p:cNvGrpSpPr/>
                    <p:nvPr/>
                  </p:nvGrpSpPr>
                  <p:grpSpPr>
                    <a:xfrm>
                      <a:off x="3089520" y="3303720"/>
                      <a:ext cx="3009240" cy="1940400"/>
                      <a:chOff x="3089520" y="3303720"/>
                      <a:chExt cx="3009240" cy="1940400"/>
                    </a:xfrm>
                  </p:grpSpPr>
                  <p:sp>
                    <p:nvSpPr>
                      <p:cNvPr id="76" name="AutoShape 88"/>
                      <p:cNvSpPr/>
                      <p:nvPr/>
                    </p:nvSpPr>
                    <p:spPr>
                      <a:xfrm flipH="1" rot="6322200">
                        <a:off x="3066120" y="4098600"/>
                        <a:ext cx="333360" cy="206640"/>
                      </a:xfrm>
                      <a:prstGeom prst="upArrow">
                        <a:avLst>
                          <a:gd name="adj1" fmla="val 41667"/>
                          <a:gd name="adj2" fmla="val 45139"/>
                        </a:avLst>
                      </a:prstGeom>
                      <a:gradFill rotWithShape="0">
                        <a:gsLst>
                          <a:gs pos="0">
                            <a:srgbClr val="5f5f5f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buClr>
                            <a:srgbClr val="993300"/>
                          </a:buClr>
                          <a:buFont typeface="Eras Bold ITC"/>
                          <a:buChar char="•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993300"/>
                          </a:solidFill>
                          <a:latin typeface="Eras Bold ITC"/>
                        </a:endParaRPr>
                      </a:p>
                    </p:txBody>
                  </p:sp>
                  <p:sp>
                    <p:nvSpPr>
                      <p:cNvPr id="77" name="AutoShape 89"/>
                      <p:cNvSpPr/>
                      <p:nvPr/>
                    </p:nvSpPr>
                    <p:spPr>
                      <a:xfrm rot="15277800">
                        <a:off x="5788440" y="4098600"/>
                        <a:ext cx="333360" cy="206640"/>
                      </a:xfrm>
                      <a:prstGeom prst="upArrow">
                        <a:avLst>
                          <a:gd name="adj1" fmla="val 41667"/>
                          <a:gd name="adj2" fmla="val 45139"/>
                        </a:avLst>
                      </a:prstGeom>
                      <a:gradFill rotWithShape="0">
                        <a:gsLst>
                          <a:gs pos="0">
                            <a:srgbClr val="000000"/>
                          </a:gs>
                          <a:gs pos="100000">
                            <a:srgbClr val="5f5f5f"/>
                          </a:gs>
                        </a:gsLst>
                        <a:lin ang="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buClr>
                            <a:srgbClr val="993300"/>
                          </a:buClr>
                          <a:buFont typeface="Eras Bold ITC"/>
                          <a:buChar char="•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993300"/>
                          </a:solidFill>
                          <a:latin typeface="Eras Bold ITC"/>
                        </a:endParaRPr>
                      </a:p>
                    </p:txBody>
                  </p:sp>
                  <p:sp>
                    <p:nvSpPr>
                      <p:cNvPr id="78" name="AutoShape 90"/>
                      <p:cNvSpPr/>
                      <p:nvPr/>
                    </p:nvSpPr>
                    <p:spPr>
                      <a:xfrm flipH="1" rot="9476400">
                        <a:off x="3818520" y="3368160"/>
                        <a:ext cx="378720" cy="181800"/>
                      </a:xfrm>
                      <a:prstGeom prst="upArrow">
                        <a:avLst>
                          <a:gd name="adj1" fmla="val 41667"/>
                          <a:gd name="adj2" fmla="val 45139"/>
                        </a:avLst>
                      </a:prstGeom>
                      <a:gradFill rotWithShape="0">
                        <a:gsLst>
                          <a:gs pos="0">
                            <a:srgbClr val="707070"/>
                          </a:gs>
                          <a:gs pos="100000">
                            <a:srgbClr val="000000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buClr>
                            <a:srgbClr val="993300"/>
                          </a:buClr>
                          <a:buFont typeface="Eras Bold ITC"/>
                          <a:buChar char="•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993300"/>
                          </a:solidFill>
                          <a:latin typeface="Eras Bold ITC"/>
                        </a:endParaRPr>
                      </a:p>
                    </p:txBody>
                  </p:sp>
                  <p:sp>
                    <p:nvSpPr>
                      <p:cNvPr id="79" name="AutoShape 91"/>
                      <p:cNvSpPr/>
                      <p:nvPr/>
                    </p:nvSpPr>
                    <p:spPr>
                      <a:xfrm rot="12123600">
                        <a:off x="5024880" y="3368160"/>
                        <a:ext cx="378720" cy="181800"/>
                      </a:xfrm>
                      <a:prstGeom prst="upArrow">
                        <a:avLst>
                          <a:gd name="adj1" fmla="val 41667"/>
                          <a:gd name="adj2" fmla="val 45139"/>
                        </a:avLst>
                      </a:prstGeom>
                      <a:gradFill rotWithShape="0">
                        <a:gsLst>
                          <a:gs pos="0">
                            <a:srgbClr val="707070"/>
                          </a:gs>
                          <a:gs pos="100000">
                            <a:srgbClr val="000000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buClr>
                            <a:srgbClr val="993300"/>
                          </a:buClr>
                          <a:buFont typeface="Eras Bold ITC"/>
                          <a:buChar char="•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993300"/>
                          </a:solidFill>
                          <a:latin typeface="Eras Bold ITC"/>
                        </a:endParaRPr>
                      </a:p>
                    </p:txBody>
                  </p:sp>
                  <p:sp>
                    <p:nvSpPr>
                      <p:cNvPr id="80" name="AutoShape 92"/>
                      <p:cNvSpPr/>
                      <p:nvPr/>
                    </p:nvSpPr>
                    <p:spPr>
                      <a:xfrm rot="18618000">
                        <a:off x="5547240" y="4946760"/>
                        <a:ext cx="333360" cy="206640"/>
                      </a:xfrm>
                      <a:prstGeom prst="upArrow">
                        <a:avLst>
                          <a:gd name="adj1" fmla="val 41667"/>
                          <a:gd name="adj2" fmla="val 45139"/>
                        </a:avLst>
                      </a:prstGeom>
                      <a:gradFill rotWithShape="0">
                        <a:gsLst>
                          <a:gs pos="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buClr>
                            <a:srgbClr val="993300"/>
                          </a:buClr>
                          <a:buFont typeface="Eras Bold ITC"/>
                          <a:buChar char="•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993300"/>
                          </a:solidFill>
                          <a:latin typeface="Eras Bold ITC"/>
                        </a:endParaRPr>
                      </a:p>
                    </p:txBody>
                  </p:sp>
                  <p:sp>
                    <p:nvSpPr>
                      <p:cNvPr id="81" name="AutoShape 93"/>
                      <p:cNvSpPr/>
                      <p:nvPr/>
                    </p:nvSpPr>
                    <p:spPr>
                      <a:xfrm flipH="1" rot="2982000">
                        <a:off x="3307320" y="4946760"/>
                        <a:ext cx="333360" cy="206640"/>
                      </a:xfrm>
                      <a:prstGeom prst="upArrow">
                        <a:avLst>
                          <a:gd name="adj1" fmla="val 41667"/>
                          <a:gd name="adj2" fmla="val 45139"/>
                        </a:avLst>
                      </a:prstGeom>
                      <a:gradFill rotWithShape="0">
                        <a:gsLst>
                          <a:gs pos="0">
                            <a:srgbClr val="333333"/>
                          </a:gs>
                          <a:gs pos="100000">
                            <a:srgbClr val="000000"/>
                          </a:gs>
                        </a:gsLst>
                        <a:lin ang="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buClr>
                            <a:srgbClr val="993300"/>
                          </a:buClr>
                          <a:buFont typeface="Eras Bold ITC"/>
                          <a:buChar char="•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993300"/>
                          </a:solidFill>
                          <a:latin typeface="Eras Bold ITC"/>
                        </a:endParaRPr>
                      </a:p>
                    </p:txBody>
                  </p:sp>
                </p:grpSp>
              </p:grpSp>
              <p:grpSp>
                <p:nvGrpSpPr>
                  <p:cNvPr id="82" name="Group 94"/>
                  <p:cNvGrpSpPr/>
                  <p:nvPr/>
                </p:nvGrpSpPr>
                <p:grpSpPr>
                  <a:xfrm>
                    <a:off x="3763800" y="5221080"/>
                    <a:ext cx="1699200" cy="283680"/>
                    <a:chOff x="3763800" y="5221080"/>
                    <a:chExt cx="1699200" cy="283680"/>
                  </a:xfrm>
                </p:grpSpPr>
                <p:sp>
                  <p:nvSpPr>
                    <p:cNvPr id="83" name="AutoShape 95"/>
                    <p:cNvSpPr/>
                    <p:nvPr/>
                  </p:nvSpPr>
                  <p:spPr>
                    <a:xfrm rot="1272000">
                      <a:off x="3790080" y="5264280"/>
                      <a:ext cx="275400" cy="196920"/>
                    </a:xfrm>
                    <a:prstGeom prst="rightArrow">
                      <a:avLst>
                        <a:gd name="adj1" fmla="val 12102"/>
                        <a:gd name="adj2" fmla="val 114621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96969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ctr">
                      <a:noAutofit/>
                    </a:bodyPr>
                    <a:p>
                      <a:pPr>
                        <a:buClr>
                          <a:srgbClr val="993300"/>
                        </a:buClr>
                        <a:buFont typeface="Eras Bold IT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93300"/>
                        </a:solidFill>
                        <a:latin typeface="Eras Bold ITC"/>
                      </a:endParaRPr>
                    </a:p>
                  </p:txBody>
                </p:sp>
                <p:sp>
                  <p:nvSpPr>
                    <p:cNvPr id="84" name="AutoShape 96"/>
                    <p:cNvSpPr/>
                    <p:nvPr/>
                  </p:nvSpPr>
                  <p:spPr>
                    <a:xfrm flipH="1" rot="20328000">
                      <a:off x="5160960" y="5263920"/>
                      <a:ext cx="275400" cy="196560"/>
                    </a:xfrm>
                    <a:prstGeom prst="rightArrow">
                      <a:avLst>
                        <a:gd name="adj1" fmla="val 12102"/>
                        <a:gd name="adj2" fmla="val 114831"/>
                      </a:avLst>
                    </a:prstGeom>
                    <a:gradFill rotWithShape="0">
                      <a:gsLst>
                        <a:gs pos="0">
                          <a:srgbClr val="969696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ctr">
                      <a:noAutofit/>
                    </a:bodyPr>
                    <a:p>
                      <a:pPr>
                        <a:buClr>
                          <a:srgbClr val="993300"/>
                        </a:buClr>
                        <a:buFont typeface="Eras Bold IT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93300"/>
                        </a:solidFill>
                        <a:latin typeface="Eras Bold ITC"/>
                      </a:endParaRPr>
                    </a:p>
                  </p:txBody>
                </p:sp>
              </p:grpSp>
              <p:grpSp>
                <p:nvGrpSpPr>
                  <p:cNvPr id="85" name="Group 97"/>
                  <p:cNvGrpSpPr/>
                  <p:nvPr/>
                </p:nvGrpSpPr>
                <p:grpSpPr>
                  <a:xfrm>
                    <a:off x="3474000" y="3702600"/>
                    <a:ext cx="2238120" cy="1121040"/>
                    <a:chOff x="3474000" y="3702600"/>
                    <a:chExt cx="2238120" cy="1121040"/>
                  </a:xfrm>
                </p:grpSpPr>
                <p:grpSp>
                  <p:nvGrpSpPr>
                    <p:cNvPr id="86" name="Group 98"/>
                    <p:cNvGrpSpPr/>
                    <p:nvPr/>
                  </p:nvGrpSpPr>
                  <p:grpSpPr>
                    <a:xfrm>
                      <a:off x="3783600" y="3805200"/>
                      <a:ext cx="1145880" cy="1018440"/>
                      <a:chOff x="3783600" y="3805200"/>
                      <a:chExt cx="1145880" cy="1018440"/>
                    </a:xfrm>
                  </p:grpSpPr>
                  <p:sp>
                    <p:nvSpPr>
                      <p:cNvPr id="87" name="Arc 99"/>
                      <p:cNvSpPr/>
                      <p:nvPr/>
                    </p:nvSpPr>
                    <p:spPr>
                      <a:xfrm flipH="1">
                        <a:off x="3783600" y="3805200"/>
                        <a:ext cx="1046160" cy="1010160"/>
                      </a:xfrm>
                      <a:prstGeom prst="pi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b2b2b2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buClr>
                            <a:srgbClr val="993300"/>
                          </a:buClr>
                          <a:buFont typeface="Eras Bold ITC"/>
                          <a:buChar char="•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993300"/>
                          </a:solidFill>
                          <a:latin typeface="Eras Bold ITC"/>
                        </a:endParaRPr>
                      </a:p>
                    </p:txBody>
                  </p:sp>
                  <p:sp>
                    <p:nvSpPr>
                      <p:cNvPr id="88" name="Arc 100"/>
                      <p:cNvSpPr/>
                      <p:nvPr/>
                    </p:nvSpPr>
                    <p:spPr>
                      <a:xfrm flipH="1">
                        <a:off x="3900960" y="3917520"/>
                        <a:ext cx="1011600" cy="869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buClr>
                            <a:srgbClr val="993300"/>
                          </a:buClr>
                          <a:buFont typeface="Eras Bold ITC"/>
                          <a:buChar char="•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993300"/>
                          </a:solidFill>
                          <a:latin typeface="Eras Bold ITC"/>
                        </a:endParaRPr>
                      </a:p>
                    </p:txBody>
                  </p:sp>
                  <p:sp>
                    <p:nvSpPr>
                      <p:cNvPr id="89" name="Freeform 101"/>
                      <p:cNvSpPr/>
                      <p:nvPr/>
                    </p:nvSpPr>
                    <p:spPr>
                      <a:xfrm>
                        <a:off x="4798080" y="4723560"/>
                        <a:ext cx="131400" cy="100080"/>
                      </a:xfrm>
                      <a:prstGeom prst="pie">
                        <a:avLst/>
                      </a:prstGeom>
                      <a:solidFill>
                        <a:srgbClr val="b2b2b2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buClr>
                            <a:srgbClr val="993300"/>
                          </a:buClr>
                          <a:buFont typeface="Eras Bold ITC"/>
                          <a:buChar char="•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993300"/>
                          </a:solidFill>
                          <a:latin typeface="Eras Bold ITC"/>
                        </a:endParaRPr>
                      </a:p>
                    </p:txBody>
                  </p:sp>
                  <p:sp>
                    <p:nvSpPr>
                      <p:cNvPr id="90" name="Freeform 102"/>
                      <p:cNvSpPr/>
                      <p:nvPr/>
                    </p:nvSpPr>
                    <p:spPr>
                      <a:xfrm>
                        <a:off x="4218120" y="3808800"/>
                        <a:ext cx="71640" cy="10764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buClr>
                            <a:srgbClr val="993300"/>
                          </a:buClr>
                          <a:buFont typeface="Eras Bold ITC"/>
                          <a:buChar char="•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993300"/>
                          </a:solidFill>
                          <a:latin typeface="Eras Bold ITC"/>
                        </a:endParaRPr>
                      </a:p>
                    </p:txBody>
                  </p:sp>
                </p:grpSp>
                <p:grpSp>
                  <p:nvGrpSpPr>
                    <p:cNvPr id="91" name="Group 103"/>
                    <p:cNvGrpSpPr/>
                    <p:nvPr/>
                  </p:nvGrpSpPr>
                  <p:grpSpPr>
                    <a:xfrm>
                      <a:off x="4300560" y="3762720"/>
                      <a:ext cx="1145880" cy="1018440"/>
                      <a:chOff x="4300560" y="3762720"/>
                      <a:chExt cx="1145880" cy="1018440"/>
                    </a:xfrm>
                  </p:grpSpPr>
                  <p:grpSp>
                    <p:nvGrpSpPr>
                      <p:cNvPr id="92" name="Group 104"/>
                      <p:cNvGrpSpPr/>
                      <p:nvPr/>
                    </p:nvGrpSpPr>
                    <p:grpSpPr>
                      <a:xfrm>
                        <a:off x="4300560" y="3762720"/>
                        <a:ext cx="1145880" cy="1018440"/>
                        <a:chOff x="4300560" y="3762720"/>
                        <a:chExt cx="1145880" cy="1018440"/>
                      </a:xfrm>
                    </p:grpSpPr>
                    <p:sp>
                      <p:nvSpPr>
                        <p:cNvPr id="93" name="Arc 105"/>
                        <p:cNvSpPr/>
                        <p:nvPr/>
                      </p:nvSpPr>
                      <p:spPr>
                        <a:xfrm flipH="1" rot="10800000">
                          <a:off x="4400280" y="3771000"/>
                          <a:ext cx="1046160" cy="1010160"/>
                        </a:xfrm>
                        <a:prstGeom prst="pie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100000">
                              <a:srgbClr val="b2b2b2"/>
                            </a:gs>
                          </a:gsLst>
                          <a:lin ang="5400000"/>
                        </a:gra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buClr>
                              <a:srgbClr val="993300"/>
                            </a:buClr>
                            <a:buFont typeface="Eras Bold ITC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993300"/>
                            </a:solidFill>
                            <a:latin typeface="Eras Bold ITC"/>
                          </a:endParaRPr>
                        </a:p>
                      </p:txBody>
                    </p:sp>
                    <p:sp>
                      <p:nvSpPr>
                        <p:cNvPr id="94" name="Arc 106"/>
                        <p:cNvSpPr/>
                        <p:nvPr/>
                      </p:nvSpPr>
                      <p:spPr>
                        <a:xfrm flipH="1" rot="10800000">
                          <a:off x="4317480" y="3799800"/>
                          <a:ext cx="1011600" cy="869040"/>
                        </a:xfrm>
                        <a:prstGeom prst="pie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buClr>
                              <a:srgbClr val="993300"/>
                            </a:buClr>
                            <a:buFont typeface="Eras Bold ITC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993300"/>
                            </a:solidFill>
                            <a:latin typeface="Eras Bold ITC"/>
                          </a:endParaRPr>
                        </a:p>
                      </p:txBody>
                    </p:sp>
                    <p:sp>
                      <p:nvSpPr>
                        <p:cNvPr id="95" name="Freeform 107"/>
                        <p:cNvSpPr/>
                        <p:nvPr/>
                      </p:nvSpPr>
                      <p:spPr>
                        <a:xfrm rot="10800000">
                          <a:off x="4300560" y="3762720"/>
                          <a:ext cx="131400" cy="100080"/>
                        </a:xfrm>
                        <a:prstGeom prst="pie">
                          <a:avLst/>
                        </a:prstGeom>
                        <a:solidFill>
                          <a:srgbClr val="b2b2b2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buClr>
                              <a:srgbClr val="993300"/>
                            </a:buClr>
                            <a:buFont typeface="Eras Bold ITC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993300"/>
                            </a:solidFill>
                            <a:latin typeface="Eras Bold ITC"/>
                          </a:endParaRPr>
                        </a:p>
                      </p:txBody>
                    </p:sp>
                    <p:sp>
                      <p:nvSpPr>
                        <p:cNvPr id="96" name="Freeform 108"/>
                        <p:cNvSpPr/>
                        <p:nvPr/>
                      </p:nvSpPr>
                      <p:spPr>
                        <a:xfrm rot="10800000">
                          <a:off x="4940280" y="4669920"/>
                          <a:ext cx="71640" cy="107640"/>
                        </a:xfrm>
                        <a:prstGeom prst="pi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buClr>
                              <a:srgbClr val="993300"/>
                            </a:buClr>
                            <a:buFont typeface="Eras Bold ITC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993300"/>
                            </a:solidFill>
                            <a:latin typeface="Eras Bold ITC"/>
                          </a:endParaRPr>
                        </a:p>
                      </p:txBody>
                    </p:sp>
                  </p:grpSp>
                  <p:sp>
                    <p:nvSpPr>
                      <p:cNvPr id="97" name="Oval 109"/>
                      <p:cNvSpPr/>
                      <p:nvPr/>
                    </p:nvSpPr>
                    <p:spPr>
                      <a:xfrm>
                        <a:off x="4747680" y="4460040"/>
                        <a:ext cx="206280" cy="2725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buClr>
                            <a:srgbClr val="993300"/>
                          </a:buClr>
                          <a:buFont typeface="Eras Bold ITC"/>
                          <a:buChar char="•"/>
                          <a:tabLst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993300"/>
                          </a:solidFill>
                          <a:latin typeface="Eras Bold ITC"/>
                        </a:endParaRPr>
                      </a:p>
                    </p:txBody>
                  </p:sp>
                </p:grpSp>
                <p:sp>
                  <p:nvSpPr>
                    <p:cNvPr id="98" name="WordArt 110"/>
                    <p:cNvSpPr txBox="1"/>
                    <p:nvPr/>
                  </p:nvSpPr>
                  <p:spPr>
                    <a:xfrm rot="14400">
                      <a:off x="4369320" y="4126320"/>
                      <a:ext cx="515520" cy="33300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49935"/>
                        </a:avLst>
                      </a:prstTxWarp>
                      <a:noAutofit/>
                    </a:bodyPr>
                    <a:p>
                      <a:pPr>
                        <a:buClr>
                          <a:srgbClr val="993300"/>
                        </a:buClr>
                        <a:buFont typeface="Eras Bold IT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292929"/>
                            </a:solidFill>
                            <a:miter/>
                          </a:ln>
                          <a:solidFill>
                            <a:srgbClr val="808080"/>
                          </a:solidFill>
                          <a:latin typeface="Comic Sans MS"/>
                        </a:rPr>
                        <a:t>Les </a:t>
                      </a:r>
                      <a:endParaRPr b="1" lang="en-US" sz="1800" spc="1" strike="noStrike">
                        <a:ln w="9360">
                          <a:solidFill>
                            <a:srgbClr val="292929"/>
                          </a:solidFill>
                          <a:miter/>
                        </a:ln>
                        <a:solidFill>
                          <a:srgbClr val="808080"/>
                        </a:solidFill>
                        <a:latin typeface="Comic Sans MS"/>
                        <a:ea typeface="Comic Sans MS"/>
                      </a:endParaRPr>
                    </a:p>
                    <a:p>
                      <a:pPr>
                        <a:buClr>
                          <a:srgbClr val="993300"/>
                        </a:buClr>
                        <a:buFont typeface="Eras Bold IT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1" strike="noStrike">
                          <a:ln w="9360">
                            <a:solidFill>
                              <a:srgbClr val="292929"/>
                            </a:solidFill>
                            <a:miter/>
                          </a:ln>
                          <a:solidFill>
                            <a:srgbClr val="808080"/>
                          </a:solidFill>
                          <a:latin typeface="Comic Sans MS"/>
                        </a:rPr>
                        <a:t>Pauvres</a:t>
                      </a:r>
                      <a:endParaRPr b="1" lang="en-US" sz="1800" spc="1" strike="noStrike">
                        <a:ln w="9360">
                          <a:solidFill>
                            <a:srgbClr val="292929"/>
                          </a:solidFill>
                          <a:miter/>
                        </a:ln>
                        <a:solidFill>
                          <a:srgbClr val="808080"/>
                        </a:solidFill>
                        <a:latin typeface="Comic Sans MS"/>
                        <a:ea typeface="Comic Sans MS"/>
                      </a:endParaRPr>
                    </a:p>
                  </p:txBody>
                </p:sp>
                <p:sp>
                  <p:nvSpPr>
                    <p:cNvPr id="99" name="WordArt 111"/>
                    <p:cNvSpPr txBox="1"/>
                    <p:nvPr/>
                  </p:nvSpPr>
                  <p:spPr>
                    <a:xfrm>
                      <a:off x="5264640" y="4520880"/>
                      <a:ext cx="344160" cy="1209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buClr>
                          <a:srgbClr val="993300"/>
                        </a:buClr>
                        <a:buFont typeface="Eras Bold IT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1" strike="noStrike">
                          <a:ln w="9360">
                            <a:solidFill>
                              <a:srgbClr val="333333"/>
                            </a:solidFill>
                            <a:miter/>
                          </a:ln>
                          <a:solidFill>
                            <a:srgbClr val="333333"/>
                          </a:solidFill>
                          <a:latin typeface="Comic Sans MS"/>
                        </a:rPr>
                        <a:t>Naturel</a:t>
                      </a:r>
                      <a:endParaRPr b="0" lang="en-US" sz="1400" spc="1" strike="noStrike">
                        <a:ln w="9360">
                          <a:solidFill>
                            <a:srgbClr val="333333"/>
                          </a:solidFill>
                          <a:miter/>
                        </a:ln>
                        <a:solidFill>
                          <a:srgbClr val="333333"/>
                        </a:solidFill>
                        <a:latin typeface="Comic Sans MS"/>
                        <a:ea typeface="Comic Sans MS"/>
                      </a:endParaRPr>
                    </a:p>
                  </p:txBody>
                </p:sp>
                <p:sp>
                  <p:nvSpPr>
                    <p:cNvPr id="100" name="WordArt 112"/>
                    <p:cNvSpPr txBox="1"/>
                    <p:nvPr/>
                  </p:nvSpPr>
                  <p:spPr>
                    <a:xfrm>
                      <a:off x="3680280" y="4641840"/>
                      <a:ext cx="495000" cy="1209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buClr>
                          <a:srgbClr val="993300"/>
                        </a:buClr>
                        <a:buFont typeface="Eras Bold IT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1" strike="noStrike">
                          <a:ln w="9360">
                            <a:solidFill>
                              <a:srgbClr val="333333"/>
                            </a:solidFill>
                            <a:miter/>
                          </a:ln>
                          <a:solidFill>
                            <a:srgbClr val="333333"/>
                          </a:solidFill>
                          <a:latin typeface="Comic Sans MS"/>
                        </a:rPr>
                        <a:t>Financier</a:t>
                      </a:r>
                      <a:endParaRPr b="0" lang="en-US" sz="1400" spc="1" strike="noStrike">
                        <a:ln w="9360">
                          <a:solidFill>
                            <a:srgbClr val="333333"/>
                          </a:solidFill>
                          <a:miter/>
                        </a:ln>
                        <a:solidFill>
                          <a:srgbClr val="333333"/>
                        </a:solidFill>
                        <a:latin typeface="Comic Sans MS"/>
                        <a:ea typeface="Comic Sans MS"/>
                      </a:endParaRPr>
                    </a:p>
                  </p:txBody>
                </p:sp>
                <p:sp>
                  <p:nvSpPr>
                    <p:cNvPr id="101" name="WordArt 113"/>
                    <p:cNvSpPr txBox="1"/>
                    <p:nvPr/>
                  </p:nvSpPr>
                  <p:spPr>
                    <a:xfrm>
                      <a:off x="3474000" y="4156920"/>
                      <a:ext cx="391680" cy="15120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buClr>
                          <a:srgbClr val="993300"/>
                        </a:buClr>
                        <a:buFont typeface="Eras Bold IT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1" strike="noStrike">
                          <a:ln w="9360">
                            <a:solidFill>
                              <a:srgbClr val="333333"/>
                            </a:solidFill>
                            <a:miter/>
                          </a:ln>
                          <a:solidFill>
                            <a:srgbClr val="333333"/>
                          </a:solidFill>
                          <a:latin typeface="Comic Sans MS"/>
                        </a:rPr>
                        <a:t>Physique</a:t>
                      </a:r>
                      <a:endParaRPr b="0" lang="en-US" sz="1400" spc="1" strike="noStrike">
                        <a:ln w="9360">
                          <a:solidFill>
                            <a:srgbClr val="333333"/>
                          </a:solidFill>
                          <a:miter/>
                        </a:ln>
                        <a:solidFill>
                          <a:srgbClr val="333333"/>
                        </a:solidFill>
                        <a:latin typeface="Comic Sans MS"/>
                        <a:ea typeface="Comic Sans MS"/>
                      </a:endParaRPr>
                    </a:p>
                  </p:txBody>
                </p:sp>
                <p:sp>
                  <p:nvSpPr>
                    <p:cNvPr id="102" name="WordArt 114"/>
                    <p:cNvSpPr txBox="1"/>
                    <p:nvPr/>
                  </p:nvSpPr>
                  <p:spPr>
                    <a:xfrm>
                      <a:off x="5299200" y="4066200"/>
                      <a:ext cx="412920" cy="1209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buClr>
                          <a:srgbClr val="993300"/>
                        </a:buClr>
                        <a:buFont typeface="Eras Bold IT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1" strike="noStrike">
                          <a:ln w="9360">
                            <a:solidFill>
                              <a:srgbClr val="333333"/>
                            </a:solidFill>
                            <a:miter/>
                          </a:ln>
                          <a:solidFill>
                            <a:srgbClr val="333333"/>
                          </a:solidFill>
                          <a:latin typeface="Comic Sans MS"/>
                        </a:rPr>
                        <a:t>Personnel</a:t>
                      </a:r>
                      <a:endParaRPr b="0" lang="en-US" sz="1400" spc="1" strike="noStrike">
                        <a:ln w="9360">
                          <a:solidFill>
                            <a:srgbClr val="333333"/>
                          </a:solidFill>
                          <a:miter/>
                        </a:ln>
                        <a:solidFill>
                          <a:srgbClr val="333333"/>
                        </a:solidFill>
                        <a:latin typeface="Comic Sans MS"/>
                        <a:ea typeface="Comic Sans MS"/>
                      </a:endParaRPr>
                    </a:p>
                  </p:txBody>
                </p:sp>
                <p:sp>
                  <p:nvSpPr>
                    <p:cNvPr id="103" name="WordArt 115"/>
                    <p:cNvSpPr txBox="1"/>
                    <p:nvPr/>
                  </p:nvSpPr>
                  <p:spPr>
                    <a:xfrm>
                      <a:off x="4851360" y="3702600"/>
                      <a:ext cx="378720" cy="1285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buClr>
                          <a:srgbClr val="993300"/>
                        </a:buClr>
                        <a:buFont typeface="Eras Bold IT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1" strike="noStrike">
                          <a:ln w="9360">
                            <a:solidFill>
                              <a:srgbClr val="333333"/>
                            </a:solidFill>
                            <a:miter/>
                          </a:ln>
                          <a:solidFill>
                            <a:srgbClr val="333333"/>
                          </a:solidFill>
                          <a:latin typeface="Comic Sans MS"/>
                        </a:rPr>
                        <a:t>Humain</a:t>
                      </a:r>
                      <a:endParaRPr b="0" lang="en-US" sz="1400" spc="1" strike="noStrike">
                        <a:ln w="9360">
                          <a:solidFill>
                            <a:srgbClr val="333333"/>
                          </a:solidFill>
                          <a:miter/>
                        </a:ln>
                        <a:solidFill>
                          <a:srgbClr val="333333"/>
                        </a:solidFill>
                        <a:latin typeface="Comic Sans MS"/>
                        <a:ea typeface="Comic Sans MS"/>
                      </a:endParaRPr>
                    </a:p>
                  </p:txBody>
                </p:sp>
                <p:sp>
                  <p:nvSpPr>
                    <p:cNvPr id="104" name="WordArt 116"/>
                    <p:cNvSpPr txBox="1"/>
                    <p:nvPr/>
                  </p:nvSpPr>
                  <p:spPr>
                    <a:xfrm>
                      <a:off x="3886920" y="3763080"/>
                      <a:ext cx="322920" cy="12096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buClr>
                          <a:srgbClr val="993300"/>
                        </a:buClr>
                        <a:buFont typeface="Eras Bold IT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1" strike="noStrike">
                          <a:ln w="9360">
                            <a:solidFill>
                              <a:srgbClr val="333333"/>
                            </a:solidFill>
                            <a:miter/>
                          </a:ln>
                          <a:solidFill>
                            <a:srgbClr val="333333"/>
                          </a:solidFill>
                          <a:latin typeface="Comic Sans MS"/>
                        </a:rPr>
                        <a:t>Social</a:t>
                      </a:r>
                      <a:endParaRPr b="0" lang="en-US" sz="1400" spc="1" strike="noStrike">
                        <a:ln w="9360">
                          <a:solidFill>
                            <a:srgbClr val="333333"/>
                          </a:solidFill>
                          <a:miter/>
                        </a:ln>
                        <a:solidFill>
                          <a:srgbClr val="333333"/>
                        </a:solidFill>
                        <a:latin typeface="Comic Sans MS"/>
                        <a:ea typeface="Comic Sans MS"/>
                      </a:endParaRPr>
                    </a:p>
                  </p:txBody>
                </p:sp>
                <p:sp>
                  <p:nvSpPr>
                    <p:cNvPr id="105" name="WordArt 117"/>
                    <p:cNvSpPr txBox="1"/>
                    <p:nvPr/>
                  </p:nvSpPr>
                  <p:spPr>
                    <a:xfrm>
                      <a:off x="3990240" y="3914640"/>
                      <a:ext cx="1239480" cy="750600"/>
                    </a:xfrm>
                    <a:prstGeom prst="rect">
                      <a:avLst/>
                    </a:prstGeom>
                  </p:spPr>
                  <p:txBody>
                    <a:bodyPr wrap="none" fromWordArt="1" lIns="90000" rIns="90000" tIns="46800" bIns="46800" anchor="t" anchorCtr="1">
                      <a:prstTxWarp prst="textArchUp">
                        <a:avLst>
                          <a:gd name="adj" fmla="val 11325023"/>
                        </a:avLst>
                      </a:prstTxWarp>
                      <a:noAutofit/>
                    </a:bodyPr>
                    <a:p>
                      <a:pPr>
                        <a:buClr>
                          <a:srgbClr val="993300"/>
                        </a:buClr>
                        <a:buFont typeface="Eras Bold IT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000000"/>
                          </a:solidFill>
                          <a:latin typeface="Arial Unicode MS"/>
                        </a:rPr>
                        <a:t>Genre  Age  Classe  Aptitude</a:t>
                      </a:r>
                      <a:endParaRPr b="0" lang="en-US" sz="1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endParaRPr>
                    </a:p>
                  </p:txBody>
                </p:sp>
                <p:sp>
                  <p:nvSpPr>
                    <p:cNvPr id="106" name="WordArt 118"/>
                    <p:cNvSpPr txBox="1"/>
                    <p:nvPr/>
                  </p:nvSpPr>
                  <p:spPr>
                    <a:xfrm>
                      <a:off x="4024800" y="4096440"/>
                      <a:ext cx="1136160" cy="575640"/>
                    </a:xfrm>
                    <a:prstGeom prst="rect">
                      <a:avLst/>
                    </a:prstGeom>
                  </p:spPr>
                  <p:txBody>
                    <a:bodyPr wrap="none" fromWordArt="1" lIns="90000" rIns="90000" tIns="46800" bIns="46800" anchor="t" anchorCtr="1">
                      <a:prstTxWarp prst="textArchDown">
                        <a:avLst>
                          <a:gd name="adj" fmla="val 0"/>
                        </a:avLst>
                      </a:prstTxWarp>
                      <a:noAutofit/>
                    </a:bodyPr>
                    <a:p>
                      <a:pPr>
                        <a:buClr>
                          <a:srgbClr val="993300"/>
                        </a:buClr>
                        <a:buFont typeface="Eras Bold IT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000000"/>
                          </a:solidFill>
                          <a:latin typeface="Arial Unicode MS"/>
                        </a:rPr>
                        <a:t>Ethnie  Histoire  Localsation</a:t>
                      </a:r>
                      <a:endParaRPr b="0" lang="en-US" sz="1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Unicode MS"/>
                        <a:ea typeface="Arial Unicode MS"/>
                      </a:endParaRPr>
                    </a:p>
                  </p:txBody>
                </p:sp>
              </p:grpSp>
              <p:grpSp>
                <p:nvGrpSpPr>
                  <p:cNvPr id="107" name="Group 119"/>
                  <p:cNvGrpSpPr/>
                  <p:nvPr/>
                </p:nvGrpSpPr>
                <p:grpSpPr>
                  <a:xfrm>
                    <a:off x="3490920" y="4854240"/>
                    <a:ext cx="2205360" cy="942480"/>
                    <a:chOff x="3490920" y="4854240"/>
                    <a:chExt cx="2205360" cy="942480"/>
                  </a:xfrm>
                </p:grpSpPr>
                <p:sp>
                  <p:nvSpPr>
                    <p:cNvPr id="108" name="Arc 120"/>
                    <p:cNvSpPr/>
                    <p:nvPr/>
                  </p:nvSpPr>
                  <p:spPr>
                    <a:xfrm>
                      <a:off x="3490920" y="4854240"/>
                      <a:ext cx="883440" cy="730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993300"/>
                        </a:buClr>
                        <a:buFont typeface="Eras Bold IT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93300"/>
                        </a:solidFill>
                        <a:latin typeface="Eras Bold ITC"/>
                      </a:endParaRPr>
                    </a:p>
                  </p:txBody>
                </p:sp>
                <p:sp>
                  <p:nvSpPr>
                    <p:cNvPr id="109" name="Arc 121"/>
                    <p:cNvSpPr/>
                    <p:nvPr/>
                  </p:nvSpPr>
                  <p:spPr>
                    <a:xfrm flipH="1">
                      <a:off x="4810680" y="4854240"/>
                      <a:ext cx="885600" cy="7293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993300"/>
                        </a:buClr>
                        <a:buFont typeface="Eras Bold IT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93300"/>
                        </a:solidFill>
                        <a:latin typeface="Eras Bold ITC"/>
                      </a:endParaRPr>
                    </a:p>
                  </p:txBody>
                </p:sp>
                <p:sp>
                  <p:nvSpPr>
                    <p:cNvPr id="110" name="Freeform 122"/>
                    <p:cNvSpPr/>
                    <p:nvPr/>
                  </p:nvSpPr>
                  <p:spPr>
                    <a:xfrm>
                      <a:off x="3957120" y="4854240"/>
                      <a:ext cx="1271520" cy="164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d4d4d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993300"/>
                        </a:buClr>
                        <a:buFont typeface="Eras Bold IT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93300"/>
                        </a:solidFill>
                        <a:latin typeface="Eras Bold ITC"/>
                      </a:endParaRPr>
                    </a:p>
                  </p:txBody>
                </p:sp>
                <p:sp>
                  <p:nvSpPr>
                    <p:cNvPr id="111" name="Freeform 123"/>
                    <p:cNvSpPr/>
                    <p:nvPr/>
                  </p:nvSpPr>
                  <p:spPr>
                    <a:xfrm>
                      <a:off x="4128120" y="5361120"/>
                      <a:ext cx="914760" cy="435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4d4d4d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993300"/>
                        </a:buClr>
                        <a:buFont typeface="Eras Bold IT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93300"/>
                        </a:solidFill>
                        <a:latin typeface="Eras Bold ITC"/>
                      </a:endParaRPr>
                    </a:p>
                  </p:txBody>
                </p:sp>
              </p:grpSp>
              <p:sp>
                <p:nvSpPr>
                  <p:cNvPr id="112" name="WordArt 124"/>
                  <p:cNvSpPr txBox="1"/>
                  <p:nvPr/>
                </p:nvSpPr>
                <p:spPr>
                  <a:xfrm rot="21597600">
                    <a:off x="3973680" y="4798080"/>
                    <a:ext cx="1274760" cy="515160"/>
                  </a:xfrm>
                  <a:prstGeom prst="rect">
                    <a:avLst/>
                  </a:prstGeom>
                </p:spPr>
                <p:txBody>
                  <a:bodyPr wrap="none" fromWordArt="1" lIns="90000" rIns="90000" tIns="46800" bIns="46800" anchor="t" anchorCtr="1">
                    <a:prstTxWarp prst="textArchDown">
                      <a:avLst>
                        <a:gd name="adj" fmla="val 3177678"/>
                      </a:avLst>
                    </a:prstTxWarp>
                    <a:noAutofit/>
                  </a:bodyPr>
                  <a:p>
                    <a:pPr>
                      <a:buClr>
                        <a:srgbClr val="993300"/>
                      </a:buClr>
                      <a:buFont typeface="Eras Bold ITC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4d4d4d"/>
                        </a:solidFill>
                        <a:latin typeface="Comic Sans MS"/>
                      </a:rPr>
                      <a:t>ACTIONS</a:t>
                    </a:r>
                    <a:endPara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4d4d4d"/>
                      </a:solidFill>
                      <a:latin typeface="Comic Sans MS"/>
                      <a:ea typeface="Comic Sans MS"/>
                    </a:endParaRPr>
                  </a:p>
                </p:txBody>
              </p:sp>
              <p:sp>
                <p:nvSpPr>
                  <p:cNvPr id="113" name="WordArt 125"/>
                  <p:cNvSpPr txBox="1"/>
                  <p:nvPr/>
                </p:nvSpPr>
                <p:spPr>
                  <a:xfrm rot="21597600">
                    <a:off x="3519000" y="4464720"/>
                    <a:ext cx="2236680" cy="595800"/>
                  </a:xfrm>
                  <a:prstGeom prst="rect">
                    <a:avLst/>
                  </a:prstGeom>
                </p:spPr>
                <p:txBody>
                  <a:bodyPr wrap="none" fromWordArt="1" lIns="90000" rIns="90000" tIns="46800" bIns="46800" anchor="t" anchorCtr="1">
                    <a:prstTxWarp prst="textArchDown">
                      <a:avLst>
                        <a:gd name="adj" fmla="val 1300431"/>
                      </a:avLst>
                    </a:prstTxWarp>
                    <a:noAutofit/>
                  </a:bodyPr>
                  <a:p>
                    <a:pPr>
                      <a:buClr>
                        <a:srgbClr val="993300"/>
                      </a:buClr>
                      <a:buFont typeface="Eras Bold ITC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4d4d4d"/>
                        </a:solidFill>
                        <a:latin typeface="Comic Sans MS"/>
                      </a:rPr>
                      <a:t>Aspirations     Opportunités</a:t>
                    </a:r>
                    <a:endParaRPr b="1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4d4d4d"/>
                      </a:solidFill>
                      <a:latin typeface="Comic Sans MS"/>
                      <a:ea typeface="Comic Sans MS"/>
                    </a:endParaRPr>
                  </a:p>
                </p:txBody>
              </p:sp>
            </p:grpSp>
            <p:grpSp>
              <p:nvGrpSpPr>
                <p:cNvPr id="114" name="Group 126"/>
                <p:cNvGrpSpPr/>
                <p:nvPr/>
              </p:nvGrpSpPr>
              <p:grpSpPr>
                <a:xfrm>
                  <a:off x="2278440" y="2355120"/>
                  <a:ext cx="4579920" cy="735840"/>
                  <a:chOff x="2278440" y="2355120"/>
                  <a:chExt cx="4579920" cy="735840"/>
                </a:xfrm>
              </p:grpSpPr>
              <p:grpSp>
                <p:nvGrpSpPr>
                  <p:cNvPr id="115" name="Group 127"/>
                  <p:cNvGrpSpPr/>
                  <p:nvPr/>
                </p:nvGrpSpPr>
                <p:grpSpPr>
                  <a:xfrm>
                    <a:off x="5888520" y="2355120"/>
                    <a:ext cx="969840" cy="735840"/>
                    <a:chOff x="5888520" y="2355120"/>
                    <a:chExt cx="969840" cy="735840"/>
                  </a:xfrm>
                </p:grpSpPr>
                <p:sp>
                  <p:nvSpPr>
                    <p:cNvPr id="116" name="Oval 128"/>
                    <p:cNvSpPr/>
                    <p:nvPr/>
                  </p:nvSpPr>
                  <p:spPr>
                    <a:xfrm rot="16200000">
                      <a:off x="6005520" y="2238120"/>
                      <a:ext cx="735840" cy="96984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993300"/>
                        </a:buClr>
                        <a:buFont typeface="Eras Bold IT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93300"/>
                        </a:solidFill>
                        <a:latin typeface="Eras Bold ITC"/>
                      </a:endParaRPr>
                    </a:p>
                  </p:txBody>
                </p:sp>
                <p:sp>
                  <p:nvSpPr>
                    <p:cNvPr id="117" name="WordArt 129"/>
                    <p:cNvSpPr txBox="1"/>
                    <p:nvPr/>
                  </p:nvSpPr>
                  <p:spPr>
                    <a:xfrm>
                      <a:off x="6035760" y="2534400"/>
                      <a:ext cx="676800" cy="376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buClr>
                          <a:srgbClr val="993300"/>
                        </a:buClr>
                        <a:buFont typeface="Eras Bold IT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000000"/>
                          </a:solidFill>
                          <a:latin typeface="Comic Sans MS"/>
                        </a:rPr>
                        <a:t>Prestataires </a:t>
                      </a:r>
                      <a:endParaRPr b="0" lang="en-US" sz="16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Comic Sans MS"/>
                        <a:ea typeface="Comic Sans MS"/>
                      </a:endParaRPr>
                    </a:p>
                    <a:p>
                      <a:pPr>
                        <a:buClr>
                          <a:srgbClr val="993300"/>
                        </a:buClr>
                        <a:buFont typeface="Eras Bold IT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000000"/>
                          </a:solidFill>
                          <a:latin typeface="Comic Sans MS"/>
                        </a:rPr>
                        <a:t>de Services</a:t>
                      </a:r>
                      <a:endParaRPr b="0" lang="en-US" sz="16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Comic Sans MS"/>
                        <a:ea typeface="Comic Sans MS"/>
                      </a:endParaRPr>
                    </a:p>
                  </p:txBody>
                </p:sp>
              </p:grpSp>
              <p:grpSp>
                <p:nvGrpSpPr>
                  <p:cNvPr id="118" name="Group 130"/>
                  <p:cNvGrpSpPr/>
                  <p:nvPr/>
                </p:nvGrpSpPr>
                <p:grpSpPr>
                  <a:xfrm>
                    <a:off x="2278440" y="2355120"/>
                    <a:ext cx="904680" cy="735840"/>
                    <a:chOff x="2278440" y="2355120"/>
                    <a:chExt cx="904680" cy="735840"/>
                  </a:xfrm>
                </p:grpSpPr>
                <p:sp>
                  <p:nvSpPr>
                    <p:cNvPr id="119" name="Oval 131"/>
                    <p:cNvSpPr/>
                    <p:nvPr/>
                  </p:nvSpPr>
                  <p:spPr>
                    <a:xfrm rot="16200000">
                      <a:off x="2362680" y="2270520"/>
                      <a:ext cx="735840" cy="90468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993300"/>
                        </a:buClr>
                        <a:buFont typeface="Eras Bold IT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93300"/>
                        </a:solidFill>
                        <a:latin typeface="Eras Bold ITC"/>
                      </a:endParaRPr>
                    </a:p>
                  </p:txBody>
                </p:sp>
                <p:sp>
                  <p:nvSpPr>
                    <p:cNvPr id="120" name="WordArt 132"/>
                    <p:cNvSpPr txBox="1"/>
                    <p:nvPr/>
                  </p:nvSpPr>
                  <p:spPr>
                    <a:xfrm>
                      <a:off x="2410200" y="2543400"/>
                      <a:ext cx="677520" cy="376920"/>
                    </a:xfrm>
                    <a:prstGeom prst="rect">
                      <a:avLst/>
                    </a:prstGeom>
                  </p:spPr>
                  <p:txBody>
                    <a:bodyPr wrap="none" lIns="90000" rIns="90000" tIns="46800" bIns="46800" anchor="t" anchorCtr="1">
                      <a:prstTxWarp prst="textPlain">
                        <a:avLst>
                          <a:gd name="adj" fmla="val 50000"/>
                        </a:avLst>
                      </a:prstTxWarp>
                      <a:noAutofit/>
                    </a:bodyPr>
                    <a:p>
                      <a:pPr>
                        <a:buClr>
                          <a:srgbClr val="993300"/>
                        </a:buClr>
                        <a:buFont typeface="Eras Bold IT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000000"/>
                          </a:solidFill>
                          <a:latin typeface="Comic Sans MS"/>
                        </a:rPr>
                        <a:t>Agences</a:t>
                      </a:r>
                      <a:endParaRPr b="0" lang="en-US" sz="16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Comic Sans MS"/>
                        <a:ea typeface="Comic Sans MS"/>
                      </a:endParaRPr>
                    </a:p>
                    <a:p>
                      <a:pPr>
                        <a:buClr>
                          <a:srgbClr val="993300"/>
                        </a:buClr>
                        <a:buFont typeface="Eras Bold IT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1" strike="noStrike"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  <a:solidFill>
                            <a:srgbClr val="000000"/>
                          </a:solidFill>
                          <a:latin typeface="Comic Sans MS"/>
                        </a:rPr>
                        <a:t>d'habilitation</a:t>
                      </a:r>
                      <a:endParaRPr b="0" lang="en-US" sz="16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Comic Sans MS"/>
                        <a:ea typeface="Comic Sans MS"/>
                      </a:endParaRPr>
                    </a:p>
                  </p:txBody>
                </p:sp>
              </p:grpSp>
              <p:sp>
                <p:nvSpPr>
                  <p:cNvPr id="121" name="AutoShape 133"/>
                  <p:cNvSpPr/>
                  <p:nvPr/>
                </p:nvSpPr>
                <p:spPr>
                  <a:xfrm>
                    <a:off x="3296160" y="2684880"/>
                    <a:ext cx="2544480" cy="187920"/>
                  </a:xfrm>
                  <a:prstGeom prst="leftRightArrow">
                    <a:avLst>
                      <a:gd name="adj1" fmla="val 50000"/>
                      <a:gd name="adj2" fmla="val 82182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ffffff"/>
                      </a:gs>
                      <a:gs pos="100000">
                        <a:srgbClr val="808080"/>
                      </a:gs>
                    </a:gsLst>
                    <a:lin ang="0"/>
                  </a:gradFill>
                  <a:ln w="93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buClr>
                        <a:srgbClr val="993300"/>
                      </a:buClr>
                      <a:buFont typeface="Eras Bold ITC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993300"/>
                      </a:solidFill>
                      <a:latin typeface="Eras Bold ITC"/>
                    </a:endParaRPr>
                  </a:p>
                </p:txBody>
              </p:sp>
            </p:grpSp>
            <p:grpSp>
              <p:nvGrpSpPr>
                <p:cNvPr id="122" name="Group 134"/>
                <p:cNvGrpSpPr/>
                <p:nvPr/>
              </p:nvGrpSpPr>
              <p:grpSpPr>
                <a:xfrm>
                  <a:off x="3118680" y="2963160"/>
                  <a:ext cx="2897640" cy="1024200"/>
                  <a:chOff x="3118680" y="2963160"/>
                  <a:chExt cx="2897640" cy="1024200"/>
                </a:xfrm>
              </p:grpSpPr>
              <p:sp>
                <p:nvSpPr>
                  <p:cNvPr id="123" name="AutoShape 135"/>
                  <p:cNvSpPr/>
                  <p:nvPr/>
                </p:nvSpPr>
                <p:spPr>
                  <a:xfrm flipH="1" rot="3486600">
                    <a:off x="2985120" y="3340440"/>
                    <a:ext cx="1033920" cy="261000"/>
                  </a:xfrm>
                  <a:prstGeom prst="leftRightArrow">
                    <a:avLst>
                      <a:gd name="adj1" fmla="val 36667"/>
                      <a:gd name="adj2" fmla="val 444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buClr>
                        <a:srgbClr val="993300"/>
                      </a:buClr>
                      <a:buFont typeface="Eras Bold ITC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993300"/>
                      </a:solidFill>
                      <a:latin typeface="Eras Bold ITC"/>
                    </a:endParaRPr>
                  </a:p>
                </p:txBody>
              </p:sp>
              <p:sp>
                <p:nvSpPr>
                  <p:cNvPr id="124" name="AutoShape 136"/>
                  <p:cNvSpPr/>
                  <p:nvPr/>
                </p:nvSpPr>
                <p:spPr>
                  <a:xfrm rot="18113400">
                    <a:off x="5114880" y="3348360"/>
                    <a:ext cx="1034280" cy="261360"/>
                  </a:xfrm>
                  <a:prstGeom prst="leftRightArrow">
                    <a:avLst>
                      <a:gd name="adj1" fmla="val 36667"/>
                      <a:gd name="adj2" fmla="val 44355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936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buClr>
                        <a:srgbClr val="993300"/>
                      </a:buClr>
                      <a:buFont typeface="Eras Bold ITC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993300"/>
                      </a:solidFill>
                      <a:latin typeface="Eras Bold ITC"/>
                    </a:endParaRPr>
                  </a:p>
                </p:txBody>
              </p:sp>
            </p:grpSp>
            <p:sp>
              <p:nvSpPr>
                <p:cNvPr id="125" name="WordArt 137"/>
                <p:cNvSpPr txBox="1"/>
                <p:nvPr/>
              </p:nvSpPr>
              <p:spPr>
                <a:xfrm rot="21597600">
                  <a:off x="3890160" y="5878080"/>
                  <a:ext cx="1517760" cy="20988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Down">
                    <a:avLst>
                      <a:gd name="adj" fmla="val 598946"/>
                    </a:avLst>
                  </a:prstTxWarp>
                  <a:noAutofit/>
                </a:bodyPr>
                <a:p>
                  <a:pPr>
                    <a:buClr>
                      <a:srgbClr val="993300"/>
                    </a:buClr>
                    <a:buFont typeface="Eras Bold ITC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Comic Sans MS"/>
                    </a:rPr>
                    <a:t>INDICES DE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Comic Sans MS"/>
                    <a:ea typeface="Comic Sans MS"/>
                  </a:endParaRPr>
                </a:p>
                <a:p>
                  <a:pPr>
                    <a:buClr>
                      <a:srgbClr val="993300"/>
                    </a:buClr>
                    <a:buFont typeface="Eras Bold ITC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Comic Sans MS"/>
                    </a:rPr>
                    <a:t>BIEN-ÊTRE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Comic Sans MS"/>
                    <a:ea typeface="Comic Sans MS"/>
                  </a:endParaRPr>
                </a:p>
              </p:txBody>
            </p:sp>
            <p:sp>
              <p:nvSpPr>
                <p:cNvPr id="126" name="Arc 138"/>
                <p:cNvSpPr/>
                <p:nvPr/>
              </p:nvSpPr>
              <p:spPr>
                <a:xfrm rot="10800000">
                  <a:off x="2532600" y="3128760"/>
                  <a:ext cx="1102680" cy="2739600"/>
                </a:xfrm>
                <a:prstGeom prst="pie">
                  <a:avLst/>
                </a:prstGeom>
                <a:noFill/>
                <a:ln w="76320">
                  <a:solidFill>
                    <a:srgbClr val="c0c0c0"/>
                  </a:solidFill>
                  <a:round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buClr>
                      <a:srgbClr val="993300"/>
                    </a:buClr>
                    <a:buFont typeface="Eras Bold ITC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00"/>
                    </a:solidFill>
                    <a:latin typeface="Eras Bold ITC"/>
                  </a:endParaRPr>
                </a:p>
              </p:txBody>
            </p:sp>
            <p:sp>
              <p:nvSpPr>
                <p:cNvPr id="127" name="WordArt 139"/>
                <p:cNvSpPr txBox="1"/>
                <p:nvPr/>
              </p:nvSpPr>
              <p:spPr>
                <a:xfrm rot="21597600">
                  <a:off x="1260720" y="3685320"/>
                  <a:ext cx="1614960" cy="3722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buClr>
                      <a:srgbClr val="993300"/>
                    </a:buClr>
                    <a:buFont typeface="Eras Bold ITC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5f5f5f"/>
                      </a:solidFill>
                      <a:latin typeface="Comic Sans MS"/>
                    </a:rPr>
                    <a:t>Résultats de 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5f5f5f"/>
                    </a:solidFill>
                    <a:latin typeface="Comic Sans MS"/>
                    <a:ea typeface="Comic Sans MS"/>
                  </a:endParaRPr>
                </a:p>
                <a:p>
                  <a:pPr>
                    <a:buClr>
                      <a:srgbClr val="993300"/>
                    </a:buClr>
                    <a:buFont typeface="Eras Bold ITC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5f5f5f"/>
                      </a:solidFill>
                      <a:latin typeface="Comic Sans MS"/>
                    </a:rPr>
                    <a:t>Gouvernance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5f5f5f"/>
                    </a:solidFill>
                    <a:latin typeface="Comic Sans MS"/>
                    <a:ea typeface="Comic Sans MS"/>
                  </a:endParaRPr>
                </a:p>
              </p:txBody>
            </p:sp>
            <p:sp>
              <p:nvSpPr>
                <p:cNvPr id="128" name="Arc 140"/>
                <p:cNvSpPr/>
                <p:nvPr/>
              </p:nvSpPr>
              <p:spPr>
                <a:xfrm flipH="1" rot="10800000">
                  <a:off x="5585400" y="3126600"/>
                  <a:ext cx="1102680" cy="2739600"/>
                </a:xfrm>
                <a:prstGeom prst="pie">
                  <a:avLst/>
                </a:prstGeom>
                <a:noFill/>
                <a:ln w="76320">
                  <a:solidFill>
                    <a:srgbClr val="c0c0c0"/>
                  </a:solidFill>
                  <a:round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buClr>
                      <a:srgbClr val="993300"/>
                    </a:buClr>
                    <a:buFont typeface="Eras Bold ITC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993300"/>
                    </a:solidFill>
                    <a:latin typeface="Eras Bold ITC"/>
                  </a:endParaRPr>
                </a:p>
              </p:txBody>
            </p:sp>
            <p:sp>
              <p:nvSpPr>
                <p:cNvPr id="129" name="WordArt 141"/>
                <p:cNvSpPr txBox="1"/>
                <p:nvPr/>
              </p:nvSpPr>
              <p:spPr>
                <a:xfrm rot="21597600">
                  <a:off x="6519600" y="3684960"/>
                  <a:ext cx="1215720" cy="370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buClr>
                      <a:srgbClr val="993300"/>
                    </a:buClr>
                    <a:buFont typeface="Eras Bold ITC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5f5f5f"/>
                      </a:solidFill>
                      <a:latin typeface="Comic Sans MS"/>
                    </a:rPr>
                    <a:t>Résultats de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5f5f5f"/>
                    </a:solidFill>
                    <a:latin typeface="Comic Sans MS"/>
                    <a:ea typeface="Comic Sans MS"/>
                  </a:endParaRPr>
                </a:p>
                <a:p>
                  <a:pPr>
                    <a:buClr>
                      <a:srgbClr val="993300"/>
                    </a:buClr>
                    <a:buFont typeface="Eras Bold ITC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5f5f5f"/>
                      </a:solidFill>
                      <a:latin typeface="Comic Sans MS"/>
                    </a:rPr>
                    <a:t>Délivrance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5f5f5f"/>
                    </a:solidFill>
                    <a:latin typeface="Comic Sans MS"/>
                    <a:ea typeface="Comic Sans MS"/>
                  </a:endParaRPr>
                </a:p>
              </p:txBody>
            </p:sp>
          </p:grpSp>
        </p:grpSp>
        <p:sp>
          <p:nvSpPr>
            <p:cNvPr id="130" name="WordArt 142"/>
            <p:cNvSpPr txBox="1"/>
            <p:nvPr/>
          </p:nvSpPr>
          <p:spPr>
            <a:xfrm rot="7200">
              <a:off x="737280" y="947520"/>
              <a:ext cx="7525080" cy="4992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848029"/>
                </a:avLst>
              </a:prstTxWarp>
              <a:noAutofit/>
            </a:bodyPr>
            <a:p>
              <a:pPr>
                <a:buClr>
                  <a:srgbClr val="993300"/>
                </a:buClr>
                <a:buFont typeface="Eras Bold IT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3366ff"/>
                  </a:solidFill>
                  <a:latin typeface="Comic Sans MS"/>
                </a:rPr>
                <a:t>Politique   Cadre Légal    Ressources &amp; Motivations</a:t>
              </a:r>
              <a:endPara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1" name="WordArt 143"/>
            <p:cNvSpPr txBox="1"/>
            <p:nvPr/>
          </p:nvSpPr>
          <p:spPr>
            <a:xfrm rot="7200">
              <a:off x="1250280" y="1274040"/>
              <a:ext cx="6494040" cy="3695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784644"/>
                </a:avLst>
              </a:prstTxWarp>
              <a:noAutofit/>
            </a:bodyPr>
            <a:p>
              <a:pPr>
                <a:buClr>
                  <a:srgbClr val="993300"/>
                </a:buClr>
                <a:buFont typeface="Eras Bold IT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333399"/>
                  </a:solidFill>
                  <a:latin typeface="Comic Sans MS"/>
                </a:rPr>
                <a:t>Contexte Institutionnel </a:t>
              </a:r>
              <a:endParaRPr b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latin typeface="Comic Sans MS"/>
                <a:ea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e la date 2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33" name="Espace réservé du pied de page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34" name="Espace réservé du numéro de diapositive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8F9E-B9A4-44A3-B4D0-D6434B267916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Analyser le Contexte Institutio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27"/>
          <p:cNvGrpSpPr/>
          <p:nvPr/>
        </p:nvGrpSpPr>
        <p:grpSpPr>
          <a:xfrm>
            <a:off x="351000" y="2349360"/>
            <a:ext cx="8793000" cy="3035160"/>
            <a:chOff x="351000" y="2349360"/>
            <a:chExt cx="8793000" cy="3035160"/>
          </a:xfrm>
        </p:grpSpPr>
        <p:sp>
          <p:nvSpPr>
            <p:cNvPr id="137" name="Text Box 3"/>
            <p:cNvSpPr/>
            <p:nvPr/>
          </p:nvSpPr>
          <p:spPr>
            <a:xfrm>
              <a:off x="351000" y="2349360"/>
              <a:ext cx="1965240" cy="2809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00"/>
                  </a:solidFill>
                  <a:latin typeface="Eras Bold ITC"/>
                </a:rPr>
                <a:t>Contexte Institutionnel</a:t>
              </a:r>
              <a:endParaRPr b="0" lang="en-US" sz="1800" spc="-1" strike="noStrike">
                <a:solidFill>
                  <a:srgbClr val="993300"/>
                </a:solidFill>
                <a:latin typeface="Eras Bold ITC"/>
              </a:endParaRPr>
            </a:p>
            <a:p>
              <a:pPr algn="ctr">
                <a:lnSpc>
                  <a:spcPct val="140000"/>
                </a:lnSpc>
                <a:spcAft>
                  <a:spcPts val="1012"/>
                </a:spcAft>
                <a:buClr>
                  <a:srgbClr val="003300"/>
                </a:buClr>
                <a:buFont typeface="Eras Bold IT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00"/>
                  </a:solidFill>
                  <a:latin typeface="Eras Bold ITC"/>
                </a:rPr>
                <a:t> </a:t>
              </a:r>
              <a:r>
                <a:rPr b="0" lang="en-GB" sz="1800" spc="-1" strike="noStrike">
                  <a:solidFill>
                    <a:srgbClr val="003300"/>
                  </a:solidFill>
                  <a:latin typeface="Eras Bold ITC"/>
                </a:rPr>
                <a:t>Politique</a:t>
              </a:r>
              <a:endParaRPr b="0" lang="en-US" sz="1800" spc="-1" strike="noStrike">
                <a:solidFill>
                  <a:srgbClr val="993300"/>
                </a:solidFill>
                <a:latin typeface="Eras Bold ITC"/>
              </a:endParaRPr>
            </a:p>
            <a:p>
              <a:pPr algn="ctr">
                <a:buClr>
                  <a:srgbClr val="003300"/>
                </a:buClr>
                <a:buFont typeface="Eras Bold IT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00"/>
                  </a:solidFill>
                  <a:latin typeface="Eras Bold ITC"/>
                </a:rPr>
                <a:t> </a:t>
              </a:r>
              <a:r>
                <a:rPr b="0" lang="en-GB" sz="1800" spc="-1" strike="noStrike">
                  <a:solidFill>
                    <a:srgbClr val="003300"/>
                  </a:solidFill>
                  <a:latin typeface="Eras Bold ITC"/>
                </a:rPr>
                <a:t>Cadre Légal</a:t>
              </a:r>
              <a:endParaRPr b="0" lang="en-US" sz="1800" spc="-1" strike="noStrike">
                <a:solidFill>
                  <a:srgbClr val="993300"/>
                </a:solidFill>
                <a:latin typeface="Eras Bold ITC"/>
              </a:endParaRPr>
            </a:p>
            <a:p>
              <a:pPr algn="ctr">
                <a:lnSpc>
                  <a:spcPct val="120000"/>
                </a:lnSpc>
                <a:spcAft>
                  <a:spcPts val="788"/>
                </a:spcAft>
                <a:buClr>
                  <a:srgbClr val="003300"/>
                </a:buClr>
                <a:buFont typeface="Eras Bold IT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00"/>
                  </a:solidFill>
                  <a:latin typeface="Eras Bold ITC"/>
                </a:rPr>
                <a:t> </a:t>
              </a:r>
              <a:r>
                <a:rPr b="0" lang="en-GB" sz="1800" spc="-1" strike="noStrike">
                  <a:solidFill>
                    <a:srgbClr val="003300"/>
                  </a:solidFill>
                  <a:latin typeface="Eras Bold ITC"/>
                </a:rPr>
                <a:t>Ressources</a:t>
              </a:r>
              <a:endParaRPr b="0" lang="en-US" sz="1800" spc="-1" strike="noStrike">
                <a:solidFill>
                  <a:srgbClr val="993300"/>
                </a:solidFill>
                <a:latin typeface="Eras Bold ITC"/>
              </a:endParaRPr>
            </a:p>
            <a:p>
              <a:pPr algn="ctr">
                <a:spcAft>
                  <a:spcPts val="1012"/>
                </a:spcAft>
                <a:buClr>
                  <a:srgbClr val="003300"/>
                </a:buClr>
                <a:buFont typeface="Eras Bold IT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00"/>
                  </a:solidFill>
                  <a:latin typeface="Eras Bold ITC"/>
                </a:rPr>
                <a:t> </a:t>
              </a:r>
              <a:r>
                <a:rPr b="0" lang="en-GB" sz="1800" spc="-1" strike="noStrike">
                  <a:solidFill>
                    <a:srgbClr val="003300"/>
                  </a:solidFill>
                  <a:latin typeface="Eras Bold ITC"/>
                </a:rPr>
                <a:t>Motivations</a:t>
              </a:r>
              <a:endParaRPr b="0" lang="en-US" sz="1800" spc="-1" strike="noStrike">
                <a:solidFill>
                  <a:srgbClr val="993300"/>
                </a:solidFill>
                <a:latin typeface="Eras Bold ITC"/>
              </a:endParaRPr>
            </a:p>
            <a:p>
              <a:pPr algn="ctr">
                <a:spcAft>
                  <a:spcPts val="1012"/>
                </a:spcAft>
                <a:buClr>
                  <a:srgbClr val="003300"/>
                </a:buClr>
                <a:buFont typeface="Eras Bold IT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00"/>
                  </a:solidFill>
                  <a:latin typeface="Eras Bold ITC"/>
                </a:rPr>
                <a:t>Instrments et outils</a:t>
              </a:r>
              <a:endParaRPr b="0" lang="en-US" sz="1800" spc="-1" strike="noStrike">
                <a:solidFill>
                  <a:srgbClr val="993300"/>
                </a:solidFill>
                <a:latin typeface="Eras Bold ITC"/>
              </a:endParaRPr>
            </a:p>
          </p:txBody>
        </p:sp>
        <p:sp>
          <p:nvSpPr>
            <p:cNvPr id="138" name="Text Box 4"/>
            <p:cNvSpPr/>
            <p:nvPr/>
          </p:nvSpPr>
          <p:spPr>
            <a:xfrm>
              <a:off x="7807320" y="3530520"/>
              <a:ext cx="1336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Eras Bold ITC"/>
                </a:rPr>
                <a:t>Livelihood</a:t>
              </a:r>
              <a:endParaRPr b="0" lang="en-US" sz="1600" spc="-1" strike="noStrike">
                <a:solidFill>
                  <a:srgbClr val="993300"/>
                </a:solidFill>
                <a:latin typeface="Eras Bold IT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Eras Bold ITC"/>
                </a:rPr>
                <a:t>Outcomes</a:t>
              </a:r>
              <a:endParaRPr b="0" lang="en-US" sz="1600" spc="-1" strike="noStrike">
                <a:solidFill>
                  <a:srgbClr val="993300"/>
                </a:solidFill>
                <a:latin typeface="Eras Bold ITC"/>
              </a:endParaRPr>
            </a:p>
          </p:txBody>
        </p:sp>
        <p:sp>
          <p:nvSpPr>
            <p:cNvPr id="139" name="AutoShape 6"/>
            <p:cNvSpPr/>
            <p:nvPr/>
          </p:nvSpPr>
          <p:spPr>
            <a:xfrm>
              <a:off x="7346880" y="3429000"/>
              <a:ext cx="457200" cy="762120"/>
            </a:xfrm>
            <a:prstGeom prst="rightArrow">
              <a:avLst>
                <a:gd name="adj1" fmla="val 50000"/>
                <a:gd name="adj2" fmla="val 3784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993300"/>
                </a:buClr>
                <a:buFont typeface="Eras Bold IT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00"/>
                </a:solidFill>
                <a:latin typeface="Eras Bold ITC"/>
              </a:endParaRPr>
            </a:p>
          </p:txBody>
        </p:sp>
        <p:sp>
          <p:nvSpPr>
            <p:cNvPr id="140" name="Text Box 5"/>
            <p:cNvSpPr/>
            <p:nvPr/>
          </p:nvSpPr>
          <p:spPr>
            <a:xfrm>
              <a:off x="5651640" y="3141720"/>
              <a:ext cx="1657080" cy="1237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990000"/>
                  </a:solidFill>
                  <a:latin typeface="Eras Bold ITC"/>
                </a:rPr>
                <a:t>Résultats de Délivrance</a:t>
              </a:r>
              <a:endParaRPr b="0" lang="en-US" sz="1600" spc="-1" strike="noStrike">
                <a:solidFill>
                  <a:srgbClr val="993300"/>
                </a:solidFill>
                <a:latin typeface="Eras Bold ITC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93300"/>
                </a:solidFill>
                <a:latin typeface="Eras Bold ITC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990000"/>
                  </a:solidFill>
                  <a:latin typeface="Eras Bold ITC"/>
                </a:rPr>
                <a:t>Résultats de Gouvernance</a:t>
              </a:r>
              <a:endParaRPr b="0" lang="en-US" sz="1600" spc="-1" strike="noStrike">
                <a:solidFill>
                  <a:srgbClr val="993300"/>
                </a:solidFill>
                <a:latin typeface="Eras Bold ITC"/>
              </a:endParaRPr>
            </a:p>
          </p:txBody>
        </p:sp>
        <p:sp>
          <p:nvSpPr>
            <p:cNvPr id="141" name="AutoShape 7"/>
            <p:cNvSpPr/>
            <p:nvPr/>
          </p:nvSpPr>
          <p:spPr>
            <a:xfrm>
              <a:off x="5219640" y="3357720"/>
              <a:ext cx="457200" cy="761760"/>
            </a:xfrm>
            <a:prstGeom prst="rightArrow">
              <a:avLst>
                <a:gd name="adj1" fmla="val 50000"/>
                <a:gd name="adj2" fmla="val 3784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993300"/>
                </a:buClr>
                <a:buFont typeface="Eras Bold IT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00"/>
                </a:solidFill>
                <a:latin typeface="Eras Bold ITC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>
              <a:off x="2360520" y="3314880"/>
              <a:ext cx="457200" cy="761760"/>
            </a:xfrm>
            <a:prstGeom prst="rightArrow">
              <a:avLst>
                <a:gd name="adj1" fmla="val 50000"/>
                <a:gd name="adj2" fmla="val 3784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993300"/>
                </a:buClr>
                <a:buFont typeface="Eras Bold IT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3300"/>
                </a:solidFill>
                <a:latin typeface="Eras Bold ITC"/>
              </a:endParaRPr>
            </a:p>
          </p:txBody>
        </p:sp>
        <p:grpSp>
          <p:nvGrpSpPr>
            <p:cNvPr id="143" name="Group 25"/>
            <p:cNvGrpSpPr/>
            <p:nvPr/>
          </p:nvGrpSpPr>
          <p:grpSpPr>
            <a:xfrm>
              <a:off x="2945520" y="2565360"/>
              <a:ext cx="2141640" cy="2819160"/>
              <a:chOff x="2945520" y="2565360"/>
              <a:chExt cx="2141640" cy="2819160"/>
            </a:xfrm>
          </p:grpSpPr>
          <p:sp>
            <p:nvSpPr>
              <p:cNvPr id="144" name="Text Box 11"/>
              <p:cNvSpPr/>
              <p:nvPr/>
            </p:nvSpPr>
            <p:spPr>
              <a:xfrm>
                <a:off x="2945520" y="2565360"/>
                <a:ext cx="1959120" cy="17398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Eras Bold ITC"/>
                  </a:rPr>
                  <a:t>Arènes d’Actions</a:t>
                </a: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</p:txBody>
          </p:sp>
          <p:sp>
            <p:nvSpPr>
              <p:cNvPr id="145" name="Text Box 22"/>
              <p:cNvSpPr/>
              <p:nvPr/>
            </p:nvSpPr>
            <p:spPr>
              <a:xfrm>
                <a:off x="2993040" y="2925720"/>
                <a:ext cx="1959120" cy="17398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Eras Bold ITC"/>
                  </a:rPr>
                  <a:t>Arènes d’Actions</a:t>
                </a: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</p:txBody>
          </p:sp>
          <p:sp>
            <p:nvSpPr>
              <p:cNvPr id="146" name="Text Box 23"/>
              <p:cNvSpPr/>
              <p:nvPr/>
            </p:nvSpPr>
            <p:spPr>
              <a:xfrm>
                <a:off x="3048480" y="3284280"/>
                <a:ext cx="1959120" cy="17398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Eras Bold ITC"/>
                  </a:rPr>
                  <a:t>Arènes d’Actions</a:t>
                </a: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</p:txBody>
          </p:sp>
          <p:sp>
            <p:nvSpPr>
              <p:cNvPr id="147" name="Text Box 24"/>
              <p:cNvSpPr/>
              <p:nvPr/>
            </p:nvSpPr>
            <p:spPr>
              <a:xfrm>
                <a:off x="3128040" y="3644640"/>
                <a:ext cx="1959120" cy="17398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Eras Bold ITC"/>
                  </a:rPr>
                  <a:t>Arènes d’Actions</a:t>
                </a: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Eras Bold ITC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e la date 2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49" name="Espace réservé du pied de page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Eras Light ITC"/>
              </a:rPr>
              <a:t>Cameroun 07 au  11 Mai 2007</a:t>
            </a:r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50" name="Espace réservé du numéro de diapositive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ADC2-13A6-47D4-83A7-6A9A90CA6DCC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9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C’est quoi le contexte institutionne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828800" y="2209680"/>
            <a:ext cx="495288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Les Politiques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Le Cadre légal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Les Resources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Les Motivations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Les Outils &amp; Instruments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e la date 2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54" name="Espace réservé du pied de page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Eras Light ITC"/>
              </a:rPr>
              <a:t>Cameroun 07 au  11 Mai 2007</a:t>
            </a:r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9350-CEEF-43E2-B3DA-E009FD57E66F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Où se localiser le contexte institutionnel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838080" y="1905120"/>
            <a:ext cx="73152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A toutes les échelles – groupe, communauté, pays, international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Affecte tous les acteurs et influence leurs comportements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Certaines facettes du contexte institutionnel (la politique, le cadre légal …) peuvent être associées avec des acteurs ou agences spécifiques. 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e la date 2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59" name="Espace réservé du numéro de diapositive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D381-2001-4FFB-8C55-FE284805B56B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58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Analyser les politiq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11280" y="836640"/>
            <a:ext cx="822960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Eras Bold ITC"/>
              </a:rPr>
              <a:t>Les Objectifs des politiques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Eras Bold ITC"/>
              </a:rPr>
              <a:t>Examiner les énoncés des politiques &amp; leur cohérence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749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Eras Bold ITC"/>
              </a:rPr>
              <a:t>Les processus politiques formels</a:t>
            </a:r>
            <a:endParaRPr b="0" lang="en-US" sz="28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Eras Bold ITC"/>
              </a:rPr>
              <a:t>Comment les politiques sont normalement élaborées – agenda fixé, flux des informations, consultations, formes et rôles des différents acteurs.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749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Eras Bold ITC"/>
              </a:rPr>
              <a:t>Les processus politiques </a:t>
            </a:r>
            <a:r>
              <a:rPr b="1" lang="en-GB" sz="2800" spc="-1" strike="noStrike">
                <a:solidFill>
                  <a:srgbClr val="000000"/>
                </a:solidFill>
                <a:latin typeface="Eras Bold ITC"/>
              </a:rPr>
              <a:t>“Informels”</a:t>
            </a:r>
            <a:endParaRPr b="0" lang="en-US" sz="28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Eras Bold ITC"/>
              </a:rPr>
              <a:t>Agendas Politiques,  pratiques politiques,  facteurs incrémentaux, rôles des acteurs &amp; opinions des leaders, les narrations politiques, acteurs, réseaux &amp; lobbys. 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e la date 2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63" name="Espace réservé du pied de page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Eras Light ITC"/>
              </a:rPr>
              <a:t>Cameroun 07 au  11 Mai 2007</a:t>
            </a:r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64" name="Espace réservé du numéro de diapositive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8AFA-7F70-4F55-B2AB-63E38B8C739B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Analyser les Poli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1066680"/>
            <a:ext cx="822960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749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Eras Bold ITC"/>
              </a:rPr>
              <a:t>Outils &amp; mechanismes pour la mise en oeuvre des politiques</a:t>
            </a:r>
            <a:endParaRPr b="0" lang="en-US" sz="28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Eras Bold ITC"/>
              </a:rPr>
              <a:t>Les relations entre les décideurs politiques &amp; les acteurs chargés de la mise en oeuvre; intérêts &amp; motivations, monitoring &amp; contrôle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90000"/>
              </a:lnSpc>
              <a:spcAft>
                <a:spcPts val="1749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Eras Bold ITC"/>
              </a:rPr>
              <a:t>Rétroaction &amp; information</a:t>
            </a:r>
            <a:endParaRPr b="0" lang="en-US" sz="28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Eras Bold ITC"/>
              </a:rPr>
              <a:t>Comment les décideurs politiques se rendent-ils compte des impacts de leur politique? En sont-ils préoccupés?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90000"/>
              </a:lnSpc>
              <a:spcAft>
                <a:spcPts val="1749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Eras Bold ITC"/>
              </a:rPr>
              <a:t>Comparaison &amp; harmonisation des politiques</a:t>
            </a:r>
            <a:endParaRPr b="0" lang="en-US" sz="28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Eras Bold ITC"/>
              </a:rPr>
              <a:t>A différentes échelles, à travers les secteurs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e la date 2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68" name="Espace réservé du numéro de diapositive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E997-DF04-4F6C-BB7E-00F782AB87F9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Le cadre Lé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028"/>
          <p:cNvSpPr/>
          <p:nvPr/>
        </p:nvSpPr>
        <p:spPr>
          <a:xfrm>
            <a:off x="685800" y="990720"/>
            <a:ext cx="77724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Les règles opérationnelles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Eras Bold ITC"/>
              </a:rPr>
              <a:t>Ce sont les règles du jeu qui affectent les relations entre acteurs &amp; agences (y inclut les lois, mais aussi les lois et normes informelles)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Les règles régissant les choix collectifs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Eras Bold ITC"/>
              </a:rPr>
              <a:t>Comment les règles opérationnelles sont générées (par qui, à travers quels processus? )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Les règles constitutionnelles 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Eras Bold ITC"/>
              </a:rPr>
              <a:t>Ce sont les règles qui régissent comment les règles pour les choix collectifs sont générées. (par qui, à travers quels processus? )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e la date 2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72" name="Espace réservé du pied de page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Eras Light ITC"/>
              </a:rPr>
              <a:t>Cameroun 07 au  11 Mai 2007</a:t>
            </a:r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73" name="Espace réservé du numéro de diapositive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651D-8457-4CAB-85F0-9B7E44104290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0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Le cadre Lé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762120" y="1523880"/>
            <a:ext cx="77724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Qui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sont les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acteurs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impliqués? 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Quels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sont leurs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 rôles?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Comment inter agissent – ils? 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De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quels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 instruments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dispose-t-ils pour établir le cadre légal? 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De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 Quelles ressources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disposent-ils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?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Quelles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sont les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 motivations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?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Quelles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règles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régissent l processus? </a:t>
            </a:r>
            <a:endParaRPr b="0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0:11:36Z</dcterms:created>
  <dc:creator>Alain ONIBON</dc:creator>
  <dc:description/>
  <dc:language>en-US</dc:language>
  <cp:lastModifiedBy>Alain ONIBON</cp:lastModifiedBy>
  <dcterms:modified xsi:type="dcterms:W3CDTF">2007-07-22T20:44:56Z</dcterms:modified>
  <cp:revision>92</cp:revision>
  <dc:subject/>
  <dc:title>Results</dc:title>
</cp:coreProperties>
</file>