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B112-0935-46CE-9887-817C338E45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C225-0008-49BC-A744-B7216B94F5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CF7F-1F0B-4247-9803-365F8F6DF5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F869-7089-4095-83DF-25ED77840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C61-B804-4828-8D51-60840D1AF1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17C-F125-42C0-9801-DAE2A650D5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6D68-866F-41E8-84D0-02BA753304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9B3-7E55-456F-BFC1-4ADAF0B7B2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91A4-99CB-4525-8A4D-EE3FAF9F50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7BEC-37E0-4CAA-9A3C-264ADAD10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A791-FCAC-4D51-8BF2-4F3E8622DC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075-6A8F-4CD5-AFD2-141BB565DE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4587-7F9E-4411-BAAE-8F12760087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AE9A-D92B-4E43-933B-D11F6E861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5D6C-0336-4907-8357-5DBB90FFB7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49E-7C30-4971-AC7D-5A12A334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BFC-DE60-4824-84A8-F8C7CC3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536-E809-4822-A4E0-CC206C35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D12-3BE2-454F-9435-6DEF1E8A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FFD-7B37-4B15-9E56-6FD60E52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844-0E10-403E-9240-F301C48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9C8-AE50-479B-814C-EBAE1E45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DB3-9FAC-4A69-A2D8-D5D2ABAE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B4F-6BB1-4C85-9F39-415D186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0B9-64C2-4B3D-B2F0-4BC7FD4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7D4-4196-4B2E-9736-C1E844C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037-0A1F-4B5D-8AE9-92B4FAB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Eras Light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Eras Light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Eras Light ITC"/>
              </a:rPr>
              <a:t>Burkina 30 Mai au 02 Juin  2007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Eras Light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9E30-0587-4100-9FFA-602CC00A5F6B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e la date 3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49" name="Espace réservé du numéro de diapositive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013-757B-4C36-8BB2-47CCDFFFE58E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130120"/>
            <a:ext cx="81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ras Bold ITC"/>
              </a:rPr>
              <a:t>Annexe 6 Présentation 2 au Burkina et au Cameroun</a:t>
            </a:r>
            <a:br>
              <a:rPr sz="2000"/>
            </a:br>
            <a:r>
              <a:rPr b="0" lang="fr-FR" sz="4400" spc="-1" strike="noStrike">
                <a:solidFill>
                  <a:srgbClr val="000000"/>
                </a:solidFill>
                <a:latin typeface="Eras Bold ITC"/>
              </a:rPr>
              <a:t>FOCALISATION SUR L’ANALYSE DES RESUL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06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Eras Light ITC"/>
              </a:rPr>
              <a:t>Burkina 30 Mai au 02 Juin  2007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07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2869-9BA3-4DF3-A47F-E46F85B80566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Evaluer les Indices de Bien-ê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32"/>
          <p:cNvSpPr/>
          <p:nvPr/>
        </p:nvSpPr>
        <p:spPr>
          <a:xfrm>
            <a:off x="609480" y="1371600"/>
            <a:ext cx="8153640" cy="49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Qui fait l’évaluation ?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s gens eux-mêms?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s agences de délivrance?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s agences d’Habilitation?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Comment ?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Fraire recourds aux mécanismes de reddition des compt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Attention aux niveaux de différentiation des résultats pour les différents group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Intégrer : Genre, âge, ethnicité, groupes, habileté, castes/classes, histoires personnell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E667-58D6-4EDA-8537-021484636285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Eras Bold ITC"/>
              </a:rPr>
              <a:t>Les Résultats de Déliv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286000" y="1600200"/>
            <a:ext cx="64008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Generés par les agences ou agents de délivr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(organisations, fourniseurs de services publics &amp; privés, ONGs, secteurs informel &amp; formel, etc.)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s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biens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et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services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qu’ils délivrent ou rendent disponibl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(soins de santé, transport, produits de détail, crédit, distraction,</a:t>
            </a:r>
            <a:r>
              <a:rPr b="0" lang="it-IT" sz="2400" spc="-1" strike="noStrike">
                <a:solidFill>
                  <a:srgbClr val="000000"/>
                </a:solidFill>
                <a:latin typeface="Eras Demi ITC"/>
              </a:rPr>
              <a:t> eau potable, électricité, accès Internet, téléphonie, approvisonnement en inputs agricoles...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, etc.)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79280" y="3068640"/>
            <a:ext cx="1887480" cy="119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Eras Bold ITC"/>
              </a:rPr>
              <a:t>Résultats de Délivr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16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Eras Light ITC"/>
              </a:rPr>
              <a:t>Burkina 30 Mai au 02 Juin  2007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17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B7B5-CD38-4D04-8F9A-7A75139A773F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ritères pour Evaluer les Résultats de Délivr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23960" y="1981080"/>
            <a:ext cx="8096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Production des biens &amp; services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Gamme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des biens et services disponibl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Quantité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Qualité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(and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conformité aux normes requises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)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Coûts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(pour les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usagers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, la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society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l’environnement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)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Distribution des biens &amp; servic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Efficacité et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&amp;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efficience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de la distribution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Equité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et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accessibilité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pour différents group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41DF-5AE1-4ED7-83FA-FB6A98D6DD9E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Résultats de Gouver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365200" y="692280"/>
            <a:ext cx="647712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Générés par les “Agences d’Habilitation” qui font les règles, allouent les ressources, &amp; determinent </a:t>
            </a: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les choses  fonctionnent :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(décideurs politiques, organismes de représentation, législateur,  etc.)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Aussi générés par le “contexte” plus large des institutions &amp; influences dans la société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(marchés, culture, valeurs &amp; normes, tractations politiques, droits, etc.)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e sont les lois, les mécanismes de régulation, les politiques et autres règles du jeu, ainsi généré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53440" y="2708280"/>
            <a:ext cx="190908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Govern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Result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26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CED-CAC7-427F-8FF2-B0FE083C38C3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ritères pour Evaluer les Résultats de Gou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95280" y="1413000"/>
            <a:ext cx="381636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Equité (valeurs)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Participation &amp; la voix des acteur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Transpare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Accès &amp; droit à l’information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gitimité des acteur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Equité dans l’accès aux biens et servic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ontribution aux Investissements &amp; Propriété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Reddition des Compt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500720" y="1413000"/>
            <a:ext cx="4186080" cy="50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Efficience du Systèm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Tendances des Bénéfic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oûts de transaction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Maintenance de la résiliance de la nature &amp; du capital physiqu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Demi ITC"/>
              </a:rPr>
              <a:t>Macro stabilité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onflictualité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Durabilité Ecologiqu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Stabilité des acteur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apacité à intégrer les leçons pour réaliser des ajustement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Espace réservé de la date 1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52" name="Espace réservé du numéro de diapositive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D3F9-7A83-4485-B1A3-1ED7ABB885A2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grpSp>
        <p:nvGrpSpPr>
          <p:cNvPr id="53" name="Group 61"/>
          <p:cNvGrpSpPr/>
          <p:nvPr/>
        </p:nvGrpSpPr>
        <p:grpSpPr>
          <a:xfrm>
            <a:off x="539640" y="510120"/>
            <a:ext cx="7313040" cy="5223240"/>
            <a:chOff x="539640" y="510120"/>
            <a:chExt cx="7313040" cy="5223240"/>
          </a:xfrm>
        </p:grpSpPr>
        <p:grpSp>
          <p:nvGrpSpPr>
            <p:cNvPr id="54" name="Group 62"/>
            <p:cNvGrpSpPr/>
            <p:nvPr/>
          </p:nvGrpSpPr>
          <p:grpSpPr>
            <a:xfrm>
              <a:off x="539640" y="4683600"/>
              <a:ext cx="2771640" cy="1049760"/>
              <a:chOff x="539640" y="4683600"/>
              <a:chExt cx="2771640" cy="1049760"/>
            </a:xfrm>
          </p:grpSpPr>
          <p:sp>
            <p:nvSpPr>
              <p:cNvPr id="55" name="Oval 63"/>
              <p:cNvSpPr/>
              <p:nvPr/>
            </p:nvSpPr>
            <p:spPr>
              <a:xfrm rot="16200000">
                <a:off x="1400400" y="3822480"/>
                <a:ext cx="1049760" cy="2771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56" name="WordArt 64"/>
              <p:cNvSpPr txBox="1"/>
              <p:nvPr/>
            </p:nvSpPr>
            <p:spPr>
              <a:xfrm rot="14400">
                <a:off x="936360" y="4902840"/>
                <a:ext cx="2009160" cy="61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49935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292929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</a:rPr>
                  <a:t>Indices de</a:t>
                </a:r>
                <a:endPara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3333"/>
                  </a:solidFill>
                  <a:latin typeface="Comic Sans MS"/>
                  <a:ea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292929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</a:rPr>
                  <a:t>Bien-Être</a:t>
                </a:r>
                <a:endPara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3333"/>
                  </a:solidFill>
                  <a:latin typeface="Comic Sans MS"/>
                  <a:ea typeface="Comic Sans MS"/>
                </a:endParaRPr>
              </a:p>
            </p:txBody>
          </p:sp>
        </p:grpSp>
        <p:grpSp>
          <p:nvGrpSpPr>
            <p:cNvPr id="57" name="Group 65"/>
            <p:cNvGrpSpPr/>
            <p:nvPr/>
          </p:nvGrpSpPr>
          <p:grpSpPr>
            <a:xfrm>
              <a:off x="2732400" y="3153600"/>
              <a:ext cx="1858680" cy="1793520"/>
              <a:chOff x="2732400" y="3153600"/>
              <a:chExt cx="1858680" cy="1793520"/>
            </a:xfrm>
          </p:grpSpPr>
          <p:sp>
            <p:nvSpPr>
              <p:cNvPr id="58" name="AutoShape 66"/>
              <p:cNvSpPr/>
              <p:nvPr/>
            </p:nvSpPr>
            <p:spPr>
              <a:xfrm rot="18447000">
                <a:off x="2565360" y="3743280"/>
                <a:ext cx="1691640" cy="415080"/>
              </a:xfrm>
              <a:prstGeom prst="rightArrow">
                <a:avLst>
                  <a:gd name="adj1" fmla="val 50000"/>
                  <a:gd name="adj2" fmla="val 7592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59" name="AutoShape 67"/>
              <p:cNvSpPr/>
              <p:nvPr/>
            </p:nvSpPr>
            <p:spPr>
              <a:xfrm rot="7647000">
                <a:off x="3067560" y="3945240"/>
                <a:ext cx="1691640" cy="410760"/>
              </a:xfrm>
              <a:prstGeom prst="rightArrow">
                <a:avLst>
                  <a:gd name="adj1" fmla="val 50000"/>
                  <a:gd name="adj2" fmla="val 76723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  <p:sp>
          <p:nvSpPr>
            <p:cNvPr id="60" name="WordArt 68"/>
            <p:cNvSpPr txBox="1"/>
            <p:nvPr/>
          </p:nvSpPr>
          <p:spPr>
            <a:xfrm rot="14400">
              <a:off x="3079080" y="2621520"/>
              <a:ext cx="3669480" cy="52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66ff"/>
                  </a:solidFill>
                  <a:latin typeface="Comic Sans MS"/>
                </a:rPr>
                <a:t>Biens &amp; Services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3366ff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66ff"/>
                  </a:solidFill>
                  <a:latin typeface="Comic Sans MS"/>
                </a:rPr>
                <a:t>Disponibles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3366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1" name="WordArt 69"/>
            <p:cNvSpPr txBox="1"/>
            <p:nvPr/>
          </p:nvSpPr>
          <p:spPr>
            <a:xfrm rot="14400">
              <a:off x="1064520" y="3631320"/>
              <a:ext cx="1647720" cy="21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Accès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2" name="WordArt 70"/>
            <p:cNvSpPr txBox="1"/>
            <p:nvPr/>
          </p:nvSpPr>
          <p:spPr>
            <a:xfrm rot="14400">
              <a:off x="4552920" y="4491720"/>
              <a:ext cx="3114000" cy="57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Consommation &amp;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Transformation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3" name="WordArt 71"/>
            <p:cNvSpPr txBox="1"/>
            <p:nvPr/>
          </p:nvSpPr>
          <p:spPr>
            <a:xfrm rot="18423000">
              <a:off x="3402360" y="3750120"/>
              <a:ext cx="1354320" cy="89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 </a:t>
              </a:r>
              <a:endParaRPr b="1" i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Intrants</a:t>
              </a:r>
              <a:endParaRPr b="1" i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64" name="Group 72"/>
            <p:cNvGrpSpPr/>
            <p:nvPr/>
          </p:nvGrpSpPr>
          <p:grpSpPr>
            <a:xfrm>
              <a:off x="5653800" y="810360"/>
              <a:ext cx="1859040" cy="1792440"/>
              <a:chOff x="5653800" y="810360"/>
              <a:chExt cx="1859040" cy="1792440"/>
            </a:xfrm>
          </p:grpSpPr>
          <p:sp>
            <p:nvSpPr>
              <p:cNvPr id="65" name="AutoShape 73"/>
              <p:cNvSpPr/>
              <p:nvPr/>
            </p:nvSpPr>
            <p:spPr>
              <a:xfrm rot="7647000">
                <a:off x="5486760" y="1400400"/>
                <a:ext cx="1692000" cy="415080"/>
              </a:xfrm>
              <a:prstGeom prst="rightArrow">
                <a:avLst>
                  <a:gd name="adj1" fmla="val 50000"/>
                  <a:gd name="adj2" fmla="val 7594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66" name="AutoShape 74"/>
              <p:cNvSpPr/>
              <p:nvPr/>
            </p:nvSpPr>
            <p:spPr>
              <a:xfrm rot="7647000">
                <a:off x="5990400" y="1603080"/>
                <a:ext cx="1691640" cy="408240"/>
              </a:xfrm>
              <a:prstGeom prst="rightArrow">
                <a:avLst>
                  <a:gd name="adj1" fmla="val 50000"/>
                  <a:gd name="adj2" fmla="val 77196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  <p:sp>
          <p:nvSpPr>
            <p:cNvPr id="67" name="WordArt 75"/>
            <p:cNvSpPr txBox="1"/>
            <p:nvPr/>
          </p:nvSpPr>
          <p:spPr>
            <a:xfrm rot="18423000">
              <a:off x="5178960" y="1058040"/>
              <a:ext cx="1581480" cy="41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Consommables</a:t>
              </a:r>
              <a:endParaRPr b="1" i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68" name="WordArt 76"/>
            <p:cNvSpPr txBox="1"/>
            <p:nvPr/>
          </p:nvSpPr>
          <p:spPr>
            <a:xfrm rot="18414600">
              <a:off x="5786280" y="3237480"/>
              <a:ext cx="2410920" cy="342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22053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Comic Sans MS"/>
                </a:rPr>
                <a:t>Moyens d'Existenc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Comic Sans MS"/>
                <a:ea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e la date 1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70" name="Espace réservé du pied de page 2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Eras Light ITC"/>
              </a:rPr>
              <a:t>Burkina 30 Mai au 02 Juin  2007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895-60F8-473A-A9E8-F813B7C8DDDE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755640" y="764640"/>
            <a:ext cx="7200720" cy="4825440"/>
            <a:chOff x="755640" y="764640"/>
            <a:chExt cx="7200720" cy="4825440"/>
          </a:xfrm>
        </p:grpSpPr>
        <p:grpSp>
          <p:nvGrpSpPr>
            <p:cNvPr id="73" name="Group 5"/>
            <p:cNvGrpSpPr/>
            <p:nvPr/>
          </p:nvGrpSpPr>
          <p:grpSpPr>
            <a:xfrm>
              <a:off x="2098440" y="1644120"/>
              <a:ext cx="4812840" cy="3601800"/>
              <a:chOff x="2098440" y="1644120"/>
              <a:chExt cx="4812840" cy="3601800"/>
            </a:xfrm>
          </p:grpSpPr>
          <p:sp>
            <p:nvSpPr>
              <p:cNvPr id="74" name="Arc 6"/>
              <p:cNvSpPr/>
              <p:nvPr/>
            </p:nvSpPr>
            <p:spPr>
              <a:xfrm flipH="1">
                <a:off x="2098080" y="1644120"/>
                <a:ext cx="4812840" cy="317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75" name="WordArt 7"/>
              <p:cNvSpPr txBox="1"/>
              <p:nvPr/>
            </p:nvSpPr>
            <p:spPr>
              <a:xfrm rot="65400">
                <a:off x="2321640" y="1800000"/>
                <a:ext cx="4317120" cy="34052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6209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</a:rPr>
                  <a:t>VULNERABILITE -Chocs Saisonnalité Tendances - VULNERABILITE</a:t>
                </a:r>
                <a:endPara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  <a:ea typeface="Comic Sans MS"/>
                </a:endParaRPr>
              </a:p>
            </p:txBody>
          </p:sp>
          <p:grpSp>
            <p:nvGrpSpPr>
              <p:cNvPr id="76" name="Group 8"/>
              <p:cNvGrpSpPr/>
              <p:nvPr/>
            </p:nvGrpSpPr>
            <p:grpSpPr>
              <a:xfrm>
                <a:off x="2423880" y="1879200"/>
                <a:ext cx="4117320" cy="2936880"/>
                <a:chOff x="2423880" y="1879200"/>
                <a:chExt cx="4117320" cy="2936880"/>
              </a:xfrm>
            </p:grpSpPr>
            <p:sp>
              <p:nvSpPr>
                <p:cNvPr id="77" name="Arc 9"/>
                <p:cNvSpPr/>
                <p:nvPr/>
              </p:nvSpPr>
              <p:spPr>
                <a:xfrm flipH="1">
                  <a:off x="2595600" y="2036520"/>
                  <a:ext cx="3771720" cy="277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grpSp>
              <p:nvGrpSpPr>
                <p:cNvPr id="78" name="Group 10"/>
                <p:cNvGrpSpPr/>
                <p:nvPr/>
              </p:nvGrpSpPr>
              <p:grpSpPr>
                <a:xfrm>
                  <a:off x="2423880" y="1879200"/>
                  <a:ext cx="4117320" cy="2057040"/>
                  <a:chOff x="2423880" y="1879200"/>
                  <a:chExt cx="4117320" cy="2057040"/>
                </a:xfrm>
              </p:grpSpPr>
              <p:sp>
                <p:nvSpPr>
                  <p:cNvPr id="79" name="AutoShape 11"/>
                  <p:cNvSpPr/>
                  <p:nvPr/>
                </p:nvSpPr>
                <p:spPr>
                  <a:xfrm>
                    <a:off x="4278240" y="1879200"/>
                    <a:ext cx="499680" cy="2347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0" name="AutoShape 12"/>
                  <p:cNvSpPr/>
                  <p:nvPr/>
                </p:nvSpPr>
                <p:spPr>
                  <a:xfrm rot="18823200">
                    <a:off x="2744280" y="238860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1" name="AutoShape 13"/>
                  <p:cNvSpPr/>
                  <p:nvPr/>
                </p:nvSpPr>
                <p:spPr>
                  <a:xfrm rot="15582600">
                    <a:off x="2381040" y="356364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2" name="AutoShape 14"/>
                  <p:cNvSpPr/>
                  <p:nvPr/>
                </p:nvSpPr>
                <p:spPr>
                  <a:xfrm flipH="1" rot="2776800">
                    <a:off x="5789880" y="238896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3" name="AutoShape 15"/>
                  <p:cNvSpPr/>
                  <p:nvPr/>
                </p:nvSpPr>
                <p:spPr>
                  <a:xfrm flipH="1" rot="6017400">
                    <a:off x="6152760" y="356364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</p:grpSp>
            <p:grpSp>
              <p:nvGrpSpPr>
                <p:cNvPr id="84" name="Group 16"/>
                <p:cNvGrpSpPr/>
                <p:nvPr/>
              </p:nvGrpSpPr>
              <p:grpSpPr>
                <a:xfrm>
                  <a:off x="2498400" y="1989720"/>
                  <a:ext cx="3967920" cy="2511000"/>
                  <a:chOff x="2498400" y="1989720"/>
                  <a:chExt cx="3967920" cy="2511000"/>
                </a:xfrm>
              </p:grpSpPr>
              <p:sp>
                <p:nvSpPr>
                  <p:cNvPr id="85" name="AutoShape 17"/>
                  <p:cNvSpPr/>
                  <p:nvPr/>
                </p:nvSpPr>
                <p:spPr>
                  <a:xfrm flipH="1" rot="6322200">
                    <a:off x="2471040" y="301464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5f5f5f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6" name="AutoShape 18"/>
                  <p:cNvSpPr/>
                  <p:nvPr/>
                </p:nvSpPr>
                <p:spPr>
                  <a:xfrm rot="15277800">
                    <a:off x="6062400" y="301464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5f5f5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7" name="AutoShape 19"/>
                  <p:cNvSpPr/>
                  <p:nvPr/>
                </p:nvSpPr>
                <p:spPr>
                  <a:xfrm flipH="1" rot="9476400">
                    <a:off x="3458880" y="2075040"/>
                    <a:ext cx="499680" cy="23436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70707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8" name="AutoShape 20"/>
                  <p:cNvSpPr/>
                  <p:nvPr/>
                </p:nvSpPr>
                <p:spPr>
                  <a:xfrm rot="12123600">
                    <a:off x="5050800" y="2074680"/>
                    <a:ext cx="499680" cy="2347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70707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89" name="AutoShape 21"/>
                  <p:cNvSpPr/>
                  <p:nvPr/>
                </p:nvSpPr>
                <p:spPr>
                  <a:xfrm rot="18618000">
                    <a:off x="5744160" y="4111920"/>
                    <a:ext cx="430560" cy="27252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90" name="AutoShape 22"/>
                  <p:cNvSpPr/>
                  <p:nvPr/>
                </p:nvSpPr>
                <p:spPr>
                  <a:xfrm flipH="1" rot="2982000">
                    <a:off x="2790000" y="4111920"/>
                    <a:ext cx="430560" cy="272160"/>
                  </a:xfrm>
                  <a:prstGeom prst="upArrow">
                    <a:avLst>
                      <a:gd name="adj1" fmla="val 41667"/>
                      <a:gd name="adj2" fmla="val 45139"/>
                    </a:avLst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</p:grpSp>
          </p:grpSp>
          <p:grpSp>
            <p:nvGrpSpPr>
              <p:cNvPr id="91" name="Group 23"/>
              <p:cNvGrpSpPr/>
              <p:nvPr/>
            </p:nvGrpSpPr>
            <p:grpSpPr>
              <a:xfrm>
                <a:off x="3388320" y="4467240"/>
                <a:ext cx="2238840" cy="369000"/>
                <a:chOff x="3388320" y="4467240"/>
                <a:chExt cx="2238840" cy="369000"/>
              </a:xfrm>
            </p:grpSpPr>
            <p:sp>
              <p:nvSpPr>
                <p:cNvPr id="92" name="AutoShape 24"/>
                <p:cNvSpPr/>
                <p:nvPr/>
              </p:nvSpPr>
              <p:spPr>
                <a:xfrm rot="1272000">
                  <a:off x="3421800" y="4524840"/>
                  <a:ext cx="363240" cy="254160"/>
                </a:xfrm>
                <a:prstGeom prst="rightArrow">
                  <a:avLst>
                    <a:gd name="adj1" fmla="val 12102"/>
                    <a:gd name="adj2" fmla="val 117132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96969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93" name="AutoShape 25"/>
                <p:cNvSpPr/>
                <p:nvPr/>
              </p:nvSpPr>
              <p:spPr>
                <a:xfrm flipH="1" rot="20328000">
                  <a:off x="5230080" y="4524120"/>
                  <a:ext cx="363240" cy="253800"/>
                </a:xfrm>
                <a:prstGeom prst="rightArrow">
                  <a:avLst>
                    <a:gd name="adj1" fmla="val 12102"/>
                    <a:gd name="adj2" fmla="val 117299"/>
                  </a:avLst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</p:grpSp>
          <p:grpSp>
            <p:nvGrpSpPr>
              <p:cNvPr id="94" name="Group 26"/>
              <p:cNvGrpSpPr/>
              <p:nvPr/>
            </p:nvGrpSpPr>
            <p:grpSpPr>
              <a:xfrm>
                <a:off x="3004920" y="2505960"/>
                <a:ext cx="2953440" cy="1448280"/>
                <a:chOff x="3004920" y="2505960"/>
                <a:chExt cx="2953440" cy="1448280"/>
              </a:xfrm>
            </p:grpSpPr>
            <p:grpSp>
              <p:nvGrpSpPr>
                <p:cNvPr id="95" name="Group 27"/>
                <p:cNvGrpSpPr/>
                <p:nvPr/>
              </p:nvGrpSpPr>
              <p:grpSpPr>
                <a:xfrm>
                  <a:off x="3413880" y="2638440"/>
                  <a:ext cx="1512360" cy="1315800"/>
                  <a:chOff x="3413880" y="2638440"/>
                  <a:chExt cx="1512360" cy="1315800"/>
                </a:xfrm>
              </p:grpSpPr>
              <p:sp>
                <p:nvSpPr>
                  <p:cNvPr id="96" name="Arc 28"/>
                  <p:cNvSpPr/>
                  <p:nvPr/>
                </p:nvSpPr>
                <p:spPr>
                  <a:xfrm flipH="1">
                    <a:off x="3413880" y="2638440"/>
                    <a:ext cx="1380240" cy="130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97" name="Arc 29"/>
                  <p:cNvSpPr/>
                  <p:nvPr/>
                </p:nvSpPr>
                <p:spPr>
                  <a:xfrm flipH="1">
                    <a:off x="3568680" y="2783880"/>
                    <a:ext cx="1334880" cy="112284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98" name="Freeform 30"/>
                  <p:cNvSpPr/>
                  <p:nvPr/>
                </p:nvSpPr>
                <p:spPr>
                  <a:xfrm>
                    <a:off x="4752720" y="3825000"/>
                    <a:ext cx="173520" cy="129240"/>
                  </a:xfrm>
                  <a:prstGeom prst="pi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  <p:sp>
                <p:nvSpPr>
                  <p:cNvPr id="99" name="Freeform 31"/>
                  <p:cNvSpPr/>
                  <p:nvPr/>
                </p:nvSpPr>
                <p:spPr>
                  <a:xfrm>
                    <a:off x="3987360" y="2643120"/>
                    <a:ext cx="94680" cy="1393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</p:grpSp>
            <p:grpSp>
              <p:nvGrpSpPr>
                <p:cNvPr id="100" name="Group 32"/>
                <p:cNvGrpSpPr/>
                <p:nvPr/>
              </p:nvGrpSpPr>
              <p:grpSpPr>
                <a:xfrm>
                  <a:off x="4095720" y="2583720"/>
                  <a:ext cx="1512360" cy="1315800"/>
                  <a:chOff x="4095720" y="2583720"/>
                  <a:chExt cx="1512360" cy="1315800"/>
                </a:xfrm>
              </p:grpSpPr>
              <p:grpSp>
                <p:nvGrpSpPr>
                  <p:cNvPr id="101" name="Group 33"/>
                  <p:cNvGrpSpPr/>
                  <p:nvPr/>
                </p:nvGrpSpPr>
                <p:grpSpPr>
                  <a:xfrm>
                    <a:off x="4095720" y="2583720"/>
                    <a:ext cx="1512360" cy="1315800"/>
                    <a:chOff x="4095720" y="2583720"/>
                    <a:chExt cx="1512360" cy="1315800"/>
                  </a:xfrm>
                </p:grpSpPr>
                <p:sp>
                  <p:nvSpPr>
                    <p:cNvPr id="102" name="Arc 34"/>
                    <p:cNvSpPr/>
                    <p:nvPr/>
                  </p:nvSpPr>
                  <p:spPr>
                    <a:xfrm flipH="1" rot="10800000">
                      <a:off x="4227840" y="2594160"/>
                      <a:ext cx="1380240" cy="1305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03" name="Arc 35"/>
                    <p:cNvSpPr/>
                    <p:nvPr/>
                  </p:nvSpPr>
                  <p:spPr>
                    <a:xfrm flipH="1" rot="10800000">
                      <a:off x="4118400" y="2631240"/>
                      <a:ext cx="1334880" cy="112284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04" name="Freeform 36"/>
                    <p:cNvSpPr/>
                    <p:nvPr/>
                  </p:nvSpPr>
                  <p:spPr>
                    <a:xfrm rot="10800000">
                      <a:off x="4095720" y="2583720"/>
                      <a:ext cx="173520" cy="129240"/>
                    </a:xfrm>
                    <a:prstGeom prst="pie">
                      <a:avLst/>
                    </a:pr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 rot="10800000">
                      <a:off x="4939920" y="3755520"/>
                      <a:ext cx="94680" cy="139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993300"/>
                        </a:solidFill>
                        <a:latin typeface="Eras Bold ITC"/>
                      </a:endParaRPr>
                    </a:p>
                  </p:txBody>
                </p:sp>
              </p:grpSp>
              <p:sp>
                <p:nvSpPr>
                  <p:cNvPr id="106" name="Oval 38"/>
                  <p:cNvSpPr/>
                  <p:nvPr/>
                </p:nvSpPr>
                <p:spPr>
                  <a:xfrm>
                    <a:off x="4686120" y="3484440"/>
                    <a:ext cx="272520" cy="352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993300"/>
                      </a:solidFill>
                      <a:latin typeface="Eras Bold ITC"/>
                    </a:endParaRPr>
                  </a:p>
                </p:txBody>
              </p:sp>
            </p:grpSp>
            <p:sp>
              <p:nvSpPr>
                <p:cNvPr id="107" name="WordArt 39"/>
                <p:cNvSpPr txBox="1"/>
                <p:nvPr/>
              </p:nvSpPr>
              <p:spPr>
                <a:xfrm rot="14400">
                  <a:off x="4186440" y="3053520"/>
                  <a:ext cx="680400" cy="430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49935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292929"/>
                        </a:solidFill>
                        <a:miter/>
                      </a:ln>
                      <a:solidFill>
                        <a:srgbClr val="808080"/>
                      </a:solidFill>
                      <a:latin typeface="Comic Sans MS"/>
                    </a:rPr>
                    <a:t>Les</a:t>
                  </a:r>
                  <a:endParaRPr b="1" lang="en-US" sz="1800" spc="1" strike="noStrike">
                    <a:ln w="9360">
                      <a:solidFill>
                        <a:srgbClr val="292929"/>
                      </a:solidFill>
                      <a:miter/>
                    </a:ln>
                    <a:solidFill>
                      <a:srgbClr val="808080"/>
                    </a:solidFill>
                    <a:latin typeface="Comic Sans MS"/>
                    <a:ea typeface="Comic Sans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292929"/>
                        </a:solidFill>
                        <a:miter/>
                      </a:ln>
                      <a:solidFill>
                        <a:srgbClr val="808080"/>
                      </a:solidFill>
                      <a:latin typeface="Comic Sans MS"/>
                    </a:rPr>
                    <a:t>Pauvres</a:t>
                  </a:r>
                  <a:endParaRPr b="1" lang="en-US" sz="1800" spc="1" strike="noStrike">
                    <a:ln w="9360">
                      <a:solidFill>
                        <a:srgbClr val="292929"/>
                      </a:solidFill>
                      <a:miter/>
                    </a:ln>
                    <a:solidFill>
                      <a:srgbClr val="808080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08" name="WordArt 40"/>
                <p:cNvSpPr txBox="1"/>
                <p:nvPr/>
              </p:nvSpPr>
              <p:spPr>
                <a:xfrm>
                  <a:off x="5367960" y="3563280"/>
                  <a:ext cx="454320" cy="156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</a:rPr>
                    <a:t>Naturel</a:t>
                  </a:r>
                  <a:endParaRPr b="1" lang="en-US" sz="1400" spc="1" strike="noStrike">
                    <a:ln w="936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09" name="WordArt 41"/>
                <p:cNvSpPr txBox="1"/>
                <p:nvPr/>
              </p:nvSpPr>
              <p:spPr>
                <a:xfrm>
                  <a:off x="3277440" y="3719520"/>
                  <a:ext cx="653040" cy="156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</a:rPr>
                    <a:t>Financier</a:t>
                  </a:r>
                  <a:endParaRPr b="1" lang="en-US" sz="1400" spc="1" strike="noStrike">
                    <a:ln w="936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10" name="WordArt 42"/>
                <p:cNvSpPr txBox="1"/>
                <p:nvPr/>
              </p:nvSpPr>
              <p:spPr>
                <a:xfrm>
                  <a:off x="3004920" y="3093120"/>
                  <a:ext cx="516960" cy="1954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</a:rPr>
                    <a:t>Physique</a:t>
                  </a:r>
                  <a:endParaRPr b="1" lang="en-US" sz="1400" spc="1" strike="noStrike">
                    <a:ln w="936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11" name="WordArt 43"/>
                <p:cNvSpPr txBox="1"/>
                <p:nvPr/>
              </p:nvSpPr>
              <p:spPr>
                <a:xfrm>
                  <a:off x="5413320" y="2975760"/>
                  <a:ext cx="545040" cy="156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</a:rPr>
                    <a:t>Personnel</a:t>
                  </a:r>
                  <a:endParaRPr b="1" lang="en-US" sz="1400" spc="1" strike="noStrike">
                    <a:ln w="936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12" name="WordArt 44"/>
                <p:cNvSpPr txBox="1"/>
                <p:nvPr/>
              </p:nvSpPr>
              <p:spPr>
                <a:xfrm>
                  <a:off x="4822560" y="2505960"/>
                  <a:ext cx="499680" cy="166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</a:rPr>
                    <a:t>Humain</a:t>
                  </a:r>
                  <a:endParaRPr b="1" lang="en-US" sz="1400" spc="1" strike="noStrike">
                    <a:ln w="936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13" name="WordArt 45"/>
                <p:cNvSpPr txBox="1"/>
                <p:nvPr/>
              </p:nvSpPr>
              <p:spPr>
                <a:xfrm>
                  <a:off x="3549960" y="2584080"/>
                  <a:ext cx="425880" cy="156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</a:rPr>
                    <a:t>Social</a:t>
                  </a:r>
                  <a:endParaRPr b="1" lang="en-US" sz="1400" spc="1" strike="noStrike">
                    <a:ln w="936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14" name="WordArt 46"/>
                <p:cNvSpPr txBox="1"/>
                <p:nvPr/>
              </p:nvSpPr>
              <p:spPr>
                <a:xfrm>
                  <a:off x="3686400" y="2779920"/>
                  <a:ext cx="1635840" cy="9698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325023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Unicode MS"/>
                    </a:rPr>
                    <a:t>Genre  Age  Classe  Aptitude</a:t>
                  </a:r>
                  <a:endParaRPr b="1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Unicode MS"/>
                    <a:ea typeface="Arial Unicode MS"/>
                  </a:endParaRPr>
                </a:p>
              </p:txBody>
            </p:sp>
            <p:sp>
              <p:nvSpPr>
                <p:cNvPr id="115" name="WordArt 47"/>
                <p:cNvSpPr txBox="1"/>
                <p:nvPr/>
              </p:nvSpPr>
              <p:spPr>
                <a:xfrm>
                  <a:off x="3731760" y="3014640"/>
                  <a:ext cx="1499400" cy="74376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Unicode MS"/>
                    </a:rPr>
                    <a:t>Ethnie  Histoire  Localisation</a:t>
                  </a:r>
                  <a:endParaRPr b="1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Unicode MS"/>
                    <a:ea typeface="Arial Unicode MS"/>
                  </a:endParaRPr>
                </a:p>
              </p:txBody>
            </p:sp>
          </p:grpSp>
          <p:grpSp>
            <p:nvGrpSpPr>
              <p:cNvPr id="116" name="Group 48"/>
              <p:cNvGrpSpPr/>
              <p:nvPr/>
            </p:nvGrpSpPr>
            <p:grpSpPr>
              <a:xfrm>
                <a:off x="3027240" y="3994200"/>
                <a:ext cx="2909880" cy="1217880"/>
                <a:chOff x="3027240" y="3994200"/>
                <a:chExt cx="2909880" cy="1217880"/>
              </a:xfrm>
            </p:grpSpPr>
            <p:sp>
              <p:nvSpPr>
                <p:cNvPr id="117" name="Arc 49"/>
                <p:cNvSpPr/>
                <p:nvPr/>
              </p:nvSpPr>
              <p:spPr>
                <a:xfrm>
                  <a:off x="3027240" y="3994200"/>
                  <a:ext cx="1165320" cy="944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18" name="Arc 50"/>
                <p:cNvSpPr/>
                <p:nvPr/>
              </p:nvSpPr>
              <p:spPr>
                <a:xfrm flipH="1">
                  <a:off x="4768560" y="3994200"/>
                  <a:ext cx="1168560" cy="942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19" name="Freeform 51"/>
                <p:cNvSpPr/>
                <p:nvPr/>
              </p:nvSpPr>
              <p:spPr>
                <a:xfrm>
                  <a:off x="3642480" y="3994200"/>
                  <a:ext cx="1677960" cy="212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d4d4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20" name="Freeform 52"/>
                <p:cNvSpPr/>
                <p:nvPr/>
              </p:nvSpPr>
              <p:spPr>
                <a:xfrm>
                  <a:off x="3867840" y="4649040"/>
                  <a:ext cx="1207080" cy="56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d4d4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</p:grpSp>
          <p:sp>
            <p:nvSpPr>
              <p:cNvPr id="121" name="WordArt 53"/>
              <p:cNvSpPr txBox="1"/>
              <p:nvPr/>
            </p:nvSpPr>
            <p:spPr>
              <a:xfrm rot="21597600">
                <a:off x="3663720" y="3922200"/>
                <a:ext cx="1682280" cy="6660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3177678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4d4d4d"/>
                    </a:solidFill>
                    <a:latin typeface="Comic Sans MS"/>
                  </a:rPr>
                  <a:t>ACTIONS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22" name="WordArt 54"/>
              <p:cNvSpPr txBox="1"/>
              <p:nvPr/>
            </p:nvSpPr>
            <p:spPr>
              <a:xfrm rot="21597600">
                <a:off x="3064320" y="3491640"/>
                <a:ext cx="2951280" cy="769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1300431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4d4d4d"/>
                    </a:solidFill>
                    <a:latin typeface="Comic Sans MS"/>
                  </a:rPr>
                  <a:t>Aspirations     Opportunités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Comic Sans MS"/>
                  <a:ea typeface="Comic Sans MS"/>
                </a:endParaRPr>
              </a:p>
            </p:txBody>
          </p:sp>
        </p:grpSp>
        <p:grpSp>
          <p:nvGrpSpPr>
            <p:cNvPr id="123" name="Group 55"/>
            <p:cNvGrpSpPr/>
            <p:nvPr/>
          </p:nvGrpSpPr>
          <p:grpSpPr>
            <a:xfrm>
              <a:off x="1650600" y="764640"/>
              <a:ext cx="5644800" cy="950760"/>
              <a:chOff x="1650600" y="764640"/>
              <a:chExt cx="5644800" cy="950760"/>
            </a:xfrm>
          </p:grpSpPr>
          <p:grpSp>
            <p:nvGrpSpPr>
              <p:cNvPr id="124" name="Group 56"/>
              <p:cNvGrpSpPr/>
              <p:nvPr/>
            </p:nvGrpSpPr>
            <p:grpSpPr>
              <a:xfrm>
                <a:off x="6015600" y="764640"/>
                <a:ext cx="1279800" cy="950760"/>
                <a:chOff x="6015600" y="764640"/>
                <a:chExt cx="1279800" cy="950760"/>
              </a:xfrm>
            </p:grpSpPr>
            <p:sp>
              <p:nvSpPr>
                <p:cNvPr id="125" name="Oval 57"/>
                <p:cNvSpPr/>
                <p:nvPr/>
              </p:nvSpPr>
              <p:spPr>
                <a:xfrm rot="16200000">
                  <a:off x="6180120" y="600120"/>
                  <a:ext cx="950760" cy="127980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26" name="WordArt 58"/>
                <p:cNvSpPr txBox="1"/>
                <p:nvPr/>
              </p:nvSpPr>
              <p:spPr>
                <a:xfrm>
                  <a:off x="6209640" y="996480"/>
                  <a:ext cx="893160" cy="487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</a:rPr>
                    <a:t>Prestataires</a:t>
                  </a:r>
                  <a:endPara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  <a:ea typeface="Comic Sans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</a:rPr>
                    <a:t>de Services</a:t>
                  </a:r>
                  <a:endPara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127" name="Group 59"/>
              <p:cNvGrpSpPr/>
              <p:nvPr/>
            </p:nvGrpSpPr>
            <p:grpSpPr>
              <a:xfrm>
                <a:off x="1650600" y="764640"/>
                <a:ext cx="1193400" cy="950760"/>
                <a:chOff x="1650600" y="764640"/>
                <a:chExt cx="1193400" cy="950760"/>
              </a:xfrm>
            </p:grpSpPr>
            <p:sp>
              <p:nvSpPr>
                <p:cNvPr id="128" name="Oval 60"/>
                <p:cNvSpPr/>
                <p:nvPr/>
              </p:nvSpPr>
              <p:spPr>
                <a:xfrm rot="16200000">
                  <a:off x="1771920" y="643320"/>
                  <a:ext cx="950760" cy="1193400"/>
                </a:xfrm>
                <a:prstGeom prst="ellipse">
                  <a:avLst/>
                </a:prstGeom>
                <a:solidFill>
                  <a:srgbClr val="f8f8f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993300"/>
                    </a:solidFill>
                    <a:latin typeface="Eras Bold ITC"/>
                  </a:endParaRPr>
                </a:p>
              </p:txBody>
            </p:sp>
            <p:sp>
              <p:nvSpPr>
                <p:cNvPr id="129" name="WordArt 61"/>
                <p:cNvSpPr txBox="1"/>
                <p:nvPr/>
              </p:nvSpPr>
              <p:spPr>
                <a:xfrm>
                  <a:off x="1824840" y="1008720"/>
                  <a:ext cx="893880" cy="487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</a:rPr>
                    <a:t>Agences </a:t>
                  </a:r>
                  <a:endPara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  <a:ea typeface="Comic Sans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</a:rPr>
                    <a:t>d'habilitation</a:t>
                  </a:r>
                  <a:endPara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sp>
            <p:nvSpPr>
              <p:cNvPr id="130" name="AutoShape 62"/>
              <p:cNvSpPr/>
              <p:nvPr/>
            </p:nvSpPr>
            <p:spPr>
              <a:xfrm>
                <a:off x="2993400" y="1119240"/>
                <a:ext cx="2854080" cy="242280"/>
              </a:xfrm>
              <a:prstGeom prst="leftRightArrow">
                <a:avLst>
                  <a:gd name="adj1" fmla="val 50000"/>
                  <a:gd name="adj2" fmla="val 7149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  <p:grpSp>
          <p:nvGrpSpPr>
            <p:cNvPr id="131" name="Group 63"/>
            <p:cNvGrpSpPr/>
            <p:nvPr/>
          </p:nvGrpSpPr>
          <p:grpSpPr>
            <a:xfrm>
              <a:off x="2543400" y="1548360"/>
              <a:ext cx="3808800" cy="1328040"/>
              <a:chOff x="2543400" y="1548360"/>
              <a:chExt cx="3808800" cy="1328040"/>
            </a:xfrm>
          </p:grpSpPr>
          <p:sp>
            <p:nvSpPr>
              <p:cNvPr id="132" name="AutoShape 64"/>
              <p:cNvSpPr/>
              <p:nvPr/>
            </p:nvSpPr>
            <p:spPr>
              <a:xfrm flipH="1" rot="3486600">
                <a:off x="2374200" y="2034000"/>
                <a:ext cx="1335960" cy="344880"/>
              </a:xfrm>
              <a:prstGeom prst="leftRightArrow">
                <a:avLst>
                  <a:gd name="adj1" fmla="val 36667"/>
                  <a:gd name="adj2" fmla="val 43417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33" name="AutoShape 65"/>
              <p:cNvSpPr/>
              <p:nvPr/>
            </p:nvSpPr>
            <p:spPr>
              <a:xfrm rot="18113400">
                <a:off x="5184000" y="2044800"/>
                <a:ext cx="1336680" cy="345240"/>
              </a:xfrm>
              <a:prstGeom prst="leftRightArrow">
                <a:avLst>
                  <a:gd name="adj1" fmla="val 36667"/>
                  <a:gd name="adj2" fmla="val 43396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  <p:sp>
          <p:nvSpPr>
            <p:cNvPr id="134" name="WordArt 66"/>
            <p:cNvSpPr txBox="1"/>
            <p:nvPr/>
          </p:nvSpPr>
          <p:spPr>
            <a:xfrm rot="21597600">
              <a:off x="3553920" y="5318280"/>
              <a:ext cx="2003040" cy="271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598946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INDICES DE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BIEN-ÊTR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5" name="Arc 67"/>
            <p:cNvSpPr/>
            <p:nvPr/>
          </p:nvSpPr>
          <p:spPr>
            <a:xfrm rot="10800000">
              <a:off x="1762920" y="1764720"/>
              <a:ext cx="1455120" cy="3540240"/>
            </a:xfrm>
            <a:prstGeom prst="pie">
              <a:avLst/>
            </a:prstGeom>
            <a:noFill/>
            <a:ln w="76320">
              <a:solidFill>
                <a:srgbClr val="c0c0c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36" name="WordArt 68"/>
            <p:cNvSpPr txBox="1"/>
            <p:nvPr/>
          </p:nvSpPr>
          <p:spPr>
            <a:xfrm rot="21597600">
              <a:off x="755640" y="4423680"/>
              <a:ext cx="21308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</a:rPr>
                <a:t>Résultats d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</a:rPr>
                <a:t>Gouvernanc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7" name="Arc 69"/>
            <p:cNvSpPr/>
            <p:nvPr/>
          </p:nvSpPr>
          <p:spPr>
            <a:xfrm flipH="1" rot="10800000">
              <a:off x="5792400" y="1762200"/>
              <a:ext cx="1455120" cy="3540240"/>
            </a:xfrm>
            <a:prstGeom prst="pie">
              <a:avLst/>
            </a:prstGeom>
            <a:noFill/>
            <a:ln w="76320">
              <a:solidFill>
                <a:srgbClr val="c0c0c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38" name="WordArt 70"/>
            <p:cNvSpPr txBox="1"/>
            <p:nvPr/>
          </p:nvSpPr>
          <p:spPr>
            <a:xfrm rot="21597600">
              <a:off x="6351840" y="4425840"/>
              <a:ext cx="1604160" cy="47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</a:rPr>
                <a:t>Résultats d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</a:rPr>
                <a:t>Délivrance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39" name="Rectangle 71"/>
          <p:cNvSpPr/>
          <p:nvPr/>
        </p:nvSpPr>
        <p:spPr>
          <a:xfrm>
            <a:off x="228600" y="16524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La qualité de la Gouvernance affecte les résultats de délivrance et les indices de bien-être, à traver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40" name="Text Box 72"/>
          <p:cNvSpPr/>
          <p:nvPr/>
        </p:nvSpPr>
        <p:spPr>
          <a:xfrm>
            <a:off x="63360" y="5931000"/>
            <a:ext cx="8915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 partage des rôles, les inter relations, et le respect d’un ensemble de principes institutionnels clé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e la date 1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B5E6-2A4D-407E-B365-B9717E739C28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760320" y="668520"/>
            <a:ext cx="7777440" cy="5475240"/>
            <a:chOff x="760320" y="668520"/>
            <a:chExt cx="7777440" cy="5475240"/>
          </a:xfrm>
        </p:grpSpPr>
        <p:sp>
          <p:nvSpPr>
            <p:cNvPr id="144" name="Oval 34"/>
            <p:cNvSpPr/>
            <p:nvPr/>
          </p:nvSpPr>
          <p:spPr>
            <a:xfrm rot="16200000">
              <a:off x="871920" y="967680"/>
              <a:ext cx="1011960" cy="123552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45" name="WordArt 35"/>
            <p:cNvSpPr txBox="1"/>
            <p:nvPr/>
          </p:nvSpPr>
          <p:spPr>
            <a:xfrm>
              <a:off x="963360" y="1330920"/>
              <a:ext cx="822240" cy="48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Résultats d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Governanc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6" name="WordArt 36"/>
            <p:cNvSpPr txBox="1"/>
            <p:nvPr/>
          </p:nvSpPr>
          <p:spPr>
            <a:xfrm rot="14400">
              <a:off x="3744360" y="671400"/>
              <a:ext cx="1393200" cy="5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Qualité de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Gouvernance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7" name="AutoShape 37"/>
            <p:cNvSpPr/>
            <p:nvPr/>
          </p:nvSpPr>
          <p:spPr>
            <a:xfrm>
              <a:off x="2272320" y="1262160"/>
              <a:ext cx="4379760" cy="206280"/>
            </a:xfrm>
            <a:prstGeom prst="rightArrow">
              <a:avLst>
                <a:gd name="adj1" fmla="val 50000"/>
                <a:gd name="adj2" fmla="val 2080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48" name="AutoShape 38"/>
            <p:cNvSpPr/>
            <p:nvPr/>
          </p:nvSpPr>
          <p:spPr>
            <a:xfrm flipH="1">
              <a:off x="2172960" y="1533960"/>
              <a:ext cx="4378680" cy="207720"/>
            </a:xfrm>
            <a:prstGeom prst="rightArrow">
              <a:avLst>
                <a:gd name="adj1" fmla="val 50000"/>
                <a:gd name="adj2" fmla="val 206601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49" name="AutoShape 39"/>
            <p:cNvSpPr/>
            <p:nvPr/>
          </p:nvSpPr>
          <p:spPr>
            <a:xfrm rot="2955000">
              <a:off x="1019520" y="3476880"/>
              <a:ext cx="3624120" cy="200160"/>
            </a:xfrm>
            <a:prstGeom prst="rightArrow">
              <a:avLst>
                <a:gd name="adj1" fmla="val 50000"/>
                <a:gd name="adj2" fmla="val 17745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50" name="AutoShape 40"/>
            <p:cNvSpPr/>
            <p:nvPr/>
          </p:nvSpPr>
          <p:spPr>
            <a:xfrm flipH="1" rot="2955600">
              <a:off x="650160" y="3639600"/>
              <a:ext cx="3624120" cy="199080"/>
            </a:xfrm>
            <a:prstGeom prst="rightArrow">
              <a:avLst>
                <a:gd name="adj1" fmla="val 50000"/>
                <a:gd name="adj2" fmla="val 178419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51" name="WordArt 41"/>
            <p:cNvSpPr txBox="1"/>
            <p:nvPr/>
          </p:nvSpPr>
          <p:spPr>
            <a:xfrm rot="14400">
              <a:off x="957960" y="3392640"/>
              <a:ext cx="1392840" cy="56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Qualité de 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Gouvernance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2" name="Oval 42"/>
            <p:cNvSpPr/>
            <p:nvPr/>
          </p:nvSpPr>
          <p:spPr>
            <a:xfrm rot="16200000">
              <a:off x="7259400" y="949320"/>
              <a:ext cx="855720" cy="124452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Eras Bold ITC"/>
              </a:endParaRPr>
            </a:p>
          </p:txBody>
        </p:sp>
        <p:sp>
          <p:nvSpPr>
            <p:cNvPr id="153" name="WordArt 43"/>
            <p:cNvSpPr txBox="1"/>
            <p:nvPr/>
          </p:nvSpPr>
          <p:spPr>
            <a:xfrm>
              <a:off x="7185960" y="1461960"/>
              <a:ext cx="1089000" cy="35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Résultats de 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Délivranc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4" name="WordArt 44"/>
            <p:cNvSpPr txBox="1"/>
            <p:nvPr/>
          </p:nvSpPr>
          <p:spPr>
            <a:xfrm rot="14400">
              <a:off x="5007240" y="2284560"/>
              <a:ext cx="1089720" cy="24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Production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5" name="WordArt 45"/>
            <p:cNvSpPr txBox="1"/>
            <p:nvPr/>
          </p:nvSpPr>
          <p:spPr>
            <a:xfrm rot="14400">
              <a:off x="7226280" y="2596320"/>
              <a:ext cx="1310760" cy="20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Distribution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56" name="Group 46"/>
            <p:cNvGrpSpPr/>
            <p:nvPr/>
          </p:nvGrpSpPr>
          <p:grpSpPr>
            <a:xfrm>
              <a:off x="3486240" y="5255280"/>
              <a:ext cx="1500840" cy="888480"/>
              <a:chOff x="3486240" y="5255280"/>
              <a:chExt cx="1500840" cy="888480"/>
            </a:xfrm>
          </p:grpSpPr>
          <p:sp>
            <p:nvSpPr>
              <p:cNvPr id="157" name="Oval 47"/>
              <p:cNvSpPr/>
              <p:nvPr/>
            </p:nvSpPr>
            <p:spPr>
              <a:xfrm rot="16200000">
                <a:off x="3792240" y="4948920"/>
                <a:ext cx="888480" cy="15008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58" name="WordArt 48"/>
              <p:cNvSpPr txBox="1"/>
              <p:nvPr/>
            </p:nvSpPr>
            <p:spPr>
              <a:xfrm rot="14400">
                <a:off x="3703320" y="5487480"/>
                <a:ext cx="1087920" cy="420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49935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292929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</a:rPr>
                  <a:t>Indices de</a:t>
                </a:r>
                <a:endPara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3333"/>
                  </a:solidFill>
                  <a:latin typeface="Comic Sans MS"/>
                  <a:ea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292929"/>
                      </a:solidFill>
                      <a:miter/>
                    </a:ln>
                    <a:solidFill>
                      <a:srgbClr val="333333"/>
                    </a:solidFill>
                    <a:latin typeface="Comic Sans MS"/>
                  </a:rPr>
                  <a:t>Bien-Être</a:t>
                </a:r>
                <a:endPara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3333"/>
                  </a:solidFill>
                  <a:latin typeface="Comic Sans MS"/>
                  <a:ea typeface="Comic Sans MS"/>
                </a:endParaRPr>
              </a:p>
            </p:txBody>
          </p:sp>
        </p:grpSp>
        <p:grpSp>
          <p:nvGrpSpPr>
            <p:cNvPr id="159" name="Group 49"/>
            <p:cNvGrpSpPr/>
            <p:nvPr/>
          </p:nvGrpSpPr>
          <p:grpSpPr>
            <a:xfrm>
              <a:off x="4655880" y="3844800"/>
              <a:ext cx="1464480" cy="1656000"/>
              <a:chOff x="4655880" y="3844800"/>
              <a:chExt cx="1464480" cy="1656000"/>
            </a:xfrm>
          </p:grpSpPr>
          <p:sp>
            <p:nvSpPr>
              <p:cNvPr id="160" name="AutoShape 50"/>
              <p:cNvSpPr/>
              <p:nvPr/>
            </p:nvSpPr>
            <p:spPr>
              <a:xfrm rot="18447000">
                <a:off x="4419000" y="4461480"/>
                <a:ext cx="1665720" cy="225720"/>
              </a:xfrm>
              <a:prstGeom prst="rightArrow">
                <a:avLst>
                  <a:gd name="adj1" fmla="val 50000"/>
                  <a:gd name="adj2" fmla="val 13747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61" name="AutoShape 51"/>
              <p:cNvSpPr/>
              <p:nvPr/>
            </p:nvSpPr>
            <p:spPr>
              <a:xfrm rot="7647000">
                <a:off x="4692240" y="4660560"/>
                <a:ext cx="1666080" cy="222480"/>
              </a:xfrm>
              <a:prstGeom prst="rightArrow">
                <a:avLst>
                  <a:gd name="adj1" fmla="val 50000"/>
                  <a:gd name="adj2" fmla="val 139511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  <p:sp>
          <p:nvSpPr>
            <p:cNvPr id="162" name="WordArt 52"/>
            <p:cNvSpPr txBox="1"/>
            <p:nvPr/>
          </p:nvSpPr>
          <p:spPr>
            <a:xfrm rot="14400">
              <a:off x="5040000" y="3327120"/>
              <a:ext cx="1991880" cy="5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66ff"/>
                  </a:solidFill>
                  <a:latin typeface="Comic Sans MS"/>
                </a:rPr>
                <a:t>Biens &amp; Services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3366ff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3366ff"/>
                  </a:solidFill>
                  <a:latin typeface="Comic Sans MS"/>
                </a:rPr>
                <a:t>Disponibles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3366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3" name="WordArt 53"/>
            <p:cNvSpPr txBox="1"/>
            <p:nvPr/>
          </p:nvSpPr>
          <p:spPr>
            <a:xfrm rot="14400">
              <a:off x="3945600" y="4259160"/>
              <a:ext cx="89388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Accès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4" name="WordArt 54"/>
            <p:cNvSpPr txBox="1"/>
            <p:nvPr/>
          </p:nvSpPr>
          <p:spPr>
            <a:xfrm rot="14400">
              <a:off x="5940720" y="4785480"/>
              <a:ext cx="1692000" cy="56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Consommation &amp;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b2b2b2"/>
                  </a:solidFill>
                  <a:latin typeface="Comic Sans MS"/>
                </a:rPr>
                <a:t>Transformation</a:t>
              </a:r>
              <a:endPara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5" name="WordArt 55"/>
            <p:cNvSpPr txBox="1"/>
            <p:nvPr/>
          </p:nvSpPr>
          <p:spPr>
            <a:xfrm rot="18423000">
              <a:off x="5163840" y="4735080"/>
              <a:ext cx="1203480" cy="13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Intrants</a:t>
              </a:r>
              <a:endParaRPr b="1" i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166" name="Group 56"/>
            <p:cNvGrpSpPr/>
            <p:nvPr/>
          </p:nvGrpSpPr>
          <p:grpSpPr>
            <a:xfrm>
              <a:off x="6048360" y="1773720"/>
              <a:ext cx="1464840" cy="1655280"/>
              <a:chOff x="6048360" y="1773720"/>
              <a:chExt cx="1464840" cy="1655280"/>
            </a:xfrm>
          </p:grpSpPr>
          <p:sp>
            <p:nvSpPr>
              <p:cNvPr id="167" name="AutoShape 57"/>
              <p:cNvSpPr/>
              <p:nvPr/>
            </p:nvSpPr>
            <p:spPr>
              <a:xfrm rot="7647000">
                <a:off x="5811480" y="2390760"/>
                <a:ext cx="1667160" cy="226800"/>
              </a:xfrm>
              <a:prstGeom prst="rightArrow">
                <a:avLst>
                  <a:gd name="adj1" fmla="val 50000"/>
                  <a:gd name="adj2" fmla="val 136942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  <p:sp>
            <p:nvSpPr>
              <p:cNvPr id="168" name="AutoShape 58"/>
              <p:cNvSpPr/>
              <p:nvPr/>
            </p:nvSpPr>
            <p:spPr>
              <a:xfrm rot="7647000">
                <a:off x="6084720" y="2589120"/>
                <a:ext cx="1667160" cy="221400"/>
              </a:xfrm>
              <a:prstGeom prst="rightArrow">
                <a:avLst>
                  <a:gd name="adj1" fmla="val 50000"/>
                  <a:gd name="adj2" fmla="val 140283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993300"/>
                  </a:solidFill>
                  <a:latin typeface="Eras Bold ITC"/>
                </a:endParaRPr>
              </a:p>
            </p:txBody>
          </p:sp>
        </p:grpSp>
        <p:sp>
          <p:nvSpPr>
            <p:cNvPr id="169" name="WordArt 59"/>
            <p:cNvSpPr txBox="1"/>
            <p:nvPr/>
          </p:nvSpPr>
          <p:spPr>
            <a:xfrm rot="18423000">
              <a:off x="5814360" y="2108880"/>
              <a:ext cx="1344960" cy="16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993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292929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Consommables</a:t>
              </a:r>
              <a:endParaRPr b="1" i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70" name="WordArt 60"/>
            <p:cNvSpPr txBox="1"/>
            <p:nvPr/>
          </p:nvSpPr>
          <p:spPr>
            <a:xfrm rot="18330600">
              <a:off x="5601960" y="3779280"/>
              <a:ext cx="3345840" cy="22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691528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Comic Sans MS"/>
                </a:rPr>
                <a:t>Moyens d'Existence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1" name="WordArt 41"/>
          <p:cNvSpPr txBox="1"/>
          <p:nvPr/>
        </p:nvSpPr>
        <p:spPr>
          <a:xfrm rot="14400">
            <a:off x="7502040" y="3718080"/>
            <a:ext cx="139248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3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</a:rPr>
              <a:t>Qualité de </a:t>
            </a:r>
            <a:endParaRPr b="1" lang="en-US" sz="1800" spc="1" strike="noStrike">
              <a:ln w="9360">
                <a:solidFill>
                  <a:srgbClr val="292929"/>
                </a:solidFill>
                <a:miter/>
              </a:ln>
              <a:solidFill>
                <a:srgbClr val="b2b2b2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92929"/>
                  </a:solidFill>
                  <a:miter/>
                </a:ln>
                <a:solidFill>
                  <a:srgbClr val="b2b2b2"/>
                </a:solidFill>
                <a:latin typeface="Comic Sans MS"/>
              </a:rPr>
              <a:t>Gouvernance</a:t>
            </a:r>
            <a:endParaRPr b="1" lang="en-US" sz="1800" spc="1" strike="noStrike">
              <a:ln w="9360">
                <a:solidFill>
                  <a:srgbClr val="292929"/>
                </a:solidFill>
                <a:miter/>
              </a:ln>
              <a:solidFill>
                <a:srgbClr val="b2b2b2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3" name="Espace réservé du pied de page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Eras Light ITC"/>
              </a:rPr>
              <a:t>Burkina 30 Mai au 02 Juin  2007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73EF-A192-4E65-8E4F-EC70B55645C7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omprendre les Résult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33520" y="3043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e que les Agences de Délivrance (fournisseurs) génèrent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2440" y="4757760"/>
            <a:ext cx="51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e que les agences d’habilitation génèrent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033960" y="2852640"/>
            <a:ext cx="198144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Eras Bold ITC"/>
              </a:rPr>
              <a:t>Résultats de Délivr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958000" y="4343400"/>
            <a:ext cx="216504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Résultat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’Habilitation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ou d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Gouvern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6019920" y="1557360"/>
            <a:ext cx="198108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ndices de Bien-Etr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68360" y="1557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e que les usagers (les gens, les pauvres) génèrent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3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ECC-307A-4ACA-A89C-474B1786CAD1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Focalisation sur l’Analyse des Résulta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917040" y="3149640"/>
            <a:ext cx="1494360" cy="119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ndic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Bien-Etr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005280" y="4149720"/>
            <a:ext cx="1952640" cy="825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Eras Bold ITC"/>
              </a:rPr>
              <a:t>Résultats de Delivr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843280" y="1916280"/>
            <a:ext cx="2305080" cy="119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Résultat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Gouvernanc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5288040" y="3070080"/>
            <a:ext cx="1371600" cy="1295640"/>
          </a:xfrm>
          <a:prstGeom prst="rightArrow">
            <a:avLst>
              <a:gd name="adj1" fmla="val 50000"/>
              <a:gd name="adj2" fmla="val 264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1447920" y="3008160"/>
            <a:ext cx="1371600" cy="1295640"/>
          </a:xfrm>
          <a:prstGeom prst="rightArrow">
            <a:avLst>
              <a:gd name="adj1" fmla="val 50000"/>
              <a:gd name="adj2" fmla="val 264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533520" y="3200400"/>
            <a:ext cx="342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?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e la date 3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Eras Light ITC"/>
              </a:rPr>
              <a:t>Burkina 30 Mai au 02 Juin  2007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3" name="Espace réservé du numéro de diapositive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3C0-A1BF-4A10-9AB6-3C438F7E6082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Eras Bold ITC"/>
              </a:rPr>
              <a:t>Critères pour l’Analyse des Résulta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000" y="1557000"/>
            <a:ext cx="61196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ls réflètent le point de vue de qu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Usagers (les pauv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Les habilitate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Les prestataires d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l y a des critères “Standards”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Quantita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Eras Bold ITC"/>
              </a:rPr>
              <a:t>Qualitatif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plex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F71A-336F-413C-9847-1568ACFE7AE1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Indices de Bien-E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41560" y="2781360"/>
            <a:ext cx="1494360" cy="119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ndic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Bien-Etr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979640" y="907920"/>
            <a:ext cx="662148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On peut s’y référer comme étant les “résultats de développement humain”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 “bien-être des individus” est la finalité de tout système institutionnel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C’est donc le résultat de l’ensemble du systèm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 standard de Bien-Etre est le réflet des moyens d’existence dont les gens disposent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s Indices de Bien-Etre varient selon les groupe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Il est dangereux de faire des supposition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Demi ITC"/>
              </a:rPr>
              <a:t>Les choses peuvent être complexes – Il faut écouter les gens eux-mêmes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2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Eras Light ITC"/>
              </a:rPr>
              <a:t>Atelier AI</a:t>
            </a:r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02" name="Espace réservé du numéro de diapositive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C8A-3112-4069-9617-6B6B300FE09F}" type="slidenum">
              <a:rPr b="0" lang="en-US" sz="1200" spc="-1" strike="noStrike">
                <a:solidFill>
                  <a:srgbClr val="000000"/>
                </a:solidFill>
                <a:latin typeface="Eras Light ITC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Eras Bold ITC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Eras Bold ITC"/>
              </a:rPr>
              <a:t>Critères pour caractériser les Indices de Bien-Et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836640"/>
            <a:ext cx="8137440" cy="54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Disponibilité des Biens et Services (inputs en ME)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Gamme de choix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Facilité d’Accè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 lvl="1" marL="457200"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Proximité géographique, prix, qui a accès,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1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Niveau de Consommation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Utilisation effective des inputs en ME (y inclut les biens et services délivrés) ?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Incorporation par les gens, de ces inputs dans leurs stratégies de M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11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ras Demi ITC"/>
              </a:rPr>
              <a:t>Etat de bien-Etr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Acquisition de Connaissances &amp; Utilisation du Savoir faire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50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Niveau de Vie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Niveau de réalisation des aspirations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Demi ITC"/>
              </a:rPr>
              <a:t>Capacité de faire face à la vulénrabilité </a:t>
            </a:r>
            <a:endParaRPr b="1" lang="en-US" sz="2400" spc="-1" strike="noStrike">
              <a:solidFill>
                <a:srgbClr val="9933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0:11:36Z</dcterms:created>
  <dc:creator>Alain ONIBON</dc:creator>
  <dc:description/>
  <dc:language>en-US</dc:language>
  <cp:lastModifiedBy>Alain ONIBON</cp:lastModifiedBy>
  <dcterms:modified xsi:type="dcterms:W3CDTF">2007-07-22T20:44:11Z</dcterms:modified>
  <cp:revision>69</cp:revision>
  <dc:subject/>
  <dc:title>Results</dc:title>
</cp:coreProperties>
</file>